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GLASS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A0D3-B100-4697-B434-E46F18D5E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F4EF-6B96-401A-B355-CF0B92E27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4480-8F49-4A58-813F-1C19E64AB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B49D-C998-4DF2-8EF0-A3B03AC1C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5FAA-E91F-483C-A208-08FA60224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4F30-F9C3-4572-80AF-78D1BA05A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C54F-351D-4E13-B885-038D46869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265E-1E9E-4F03-A64D-5E11C1112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469B-F7EA-41A1-A034-314FA40DE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0363-D06D-4C90-A73A-A03CEC62D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D058-8F7E-494A-A7B7-35B5173AC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F7FD-3B16-42B5-9928-20893D368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87D70-71F6-4604-932E-2709094630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audio" Target="../media/GLASS.WAV"/><Relationship Id="rId3" Type="http://schemas.openxmlformats.org/officeDocument/2006/relationships/audio" Target="../media/GLASS.WAV"/><Relationship Id="rId4" Type="http://schemas.openxmlformats.org/officeDocument/2006/relationships/audio" Target="../media/GLASS.WAV"/><Relationship Id="rId5" Type="http://schemas.openxmlformats.org/officeDocument/2006/relationships/audio" Target="../media/GLASS.WAV"/><Relationship Id="rId6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eas and Volu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68360" y="1916280"/>
                <a:ext cx="2016000" cy="91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×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3203640" y="1916280"/>
                <a:ext cx="2579760" cy="91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×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6351480" y="2166840"/>
                <a:ext cx="133524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b</m:t>
                    </m:r>
                    <m:r>
                      <m:t xml:space="preserve">×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423720" y="3086280"/>
                <a:ext cx="2105280" cy="91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3411360" y="3278160"/>
                <a:ext cx="13050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π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6372360" y="3308400"/>
                <a:ext cx="1512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r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611280" y="4346640"/>
                <a:ext cx="115704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b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3448080" y="4307040"/>
                <a:ext cx="148428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π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6338880" y="4100400"/>
                <a:ext cx="1751040" cy="91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π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3432240" y="5249880"/>
                <a:ext cx="1571400" cy="91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π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mmetry in the Cir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area of the follow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678240" y="1011600"/>
            <a:ext cx="2453400" cy="2193480"/>
            <a:chOff x="678240" y="1011600"/>
            <a:chExt cx="2453400" cy="2193480"/>
          </a:xfrm>
        </p:grpSpPr>
        <p:grpSp>
          <p:nvGrpSpPr>
            <p:cNvPr id="286" name=""/>
            <p:cNvGrpSpPr/>
            <p:nvPr/>
          </p:nvGrpSpPr>
          <p:grpSpPr>
            <a:xfrm>
              <a:off x="678240" y="1011600"/>
              <a:ext cx="2193120" cy="2193480"/>
              <a:chOff x="678240" y="1011600"/>
              <a:chExt cx="2193120" cy="2193480"/>
            </a:xfrm>
          </p:grpSpPr>
          <p:sp>
            <p:nvSpPr>
              <p:cNvPr id="287" name=""/>
              <p:cNvSpPr/>
              <p:nvPr/>
            </p:nvSpPr>
            <p:spPr>
              <a:xfrm rot="17562000">
                <a:off x="924840" y="1258560"/>
                <a:ext cx="1600200" cy="15998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7562000">
                <a:off x="1235160" y="1762920"/>
                <a:ext cx="1752480" cy="914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9" name=""/>
            <p:cNvSpPr/>
            <p:nvPr/>
          </p:nvSpPr>
          <p:spPr>
            <a:xfrm>
              <a:off x="1074600" y="1828800"/>
              <a:ext cx="129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245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836360" y="2209680"/>
              <a:ext cx="129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8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6227640" y="1231920"/>
            <a:ext cx="2210040" cy="1980720"/>
            <a:chOff x="6227640" y="1231920"/>
            <a:chExt cx="2210040" cy="1980720"/>
          </a:xfrm>
        </p:grpSpPr>
        <p:grpSp>
          <p:nvGrpSpPr>
            <p:cNvPr id="292" name=""/>
            <p:cNvGrpSpPr/>
            <p:nvPr/>
          </p:nvGrpSpPr>
          <p:grpSpPr>
            <a:xfrm>
              <a:off x="6227640" y="1231920"/>
              <a:ext cx="1600200" cy="1980720"/>
              <a:chOff x="6227640" y="1231920"/>
              <a:chExt cx="1600200" cy="1980720"/>
            </a:xfrm>
          </p:grpSpPr>
          <p:sp>
            <p:nvSpPr>
              <p:cNvPr id="293" name=""/>
              <p:cNvSpPr/>
              <p:nvPr/>
            </p:nvSpPr>
            <p:spPr>
              <a:xfrm>
                <a:off x="6227640" y="1231920"/>
                <a:ext cx="1600200" cy="15998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6456240" y="1993680"/>
                <a:ext cx="1067040" cy="12189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5" name=""/>
            <p:cNvSpPr/>
            <p:nvPr/>
          </p:nvSpPr>
          <p:spPr>
            <a:xfrm>
              <a:off x="6761160" y="2222280"/>
              <a:ext cx="129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32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142040" y="2054160"/>
              <a:ext cx="129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4c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755640" y="3284640"/>
                <a:ext cx="20876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0</m:t>
                        </m:r>
                      </m:den>
                    </m:f>
                    <m:r>
                      <m:t xml:space="preserve">×</m:t>
                    </m:r>
                    <m:r>
                      <m:t xml:space="preserve">π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655560" y="4341960"/>
                <a:ext cx="228780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0</m:t>
                        </m:r>
                      </m:den>
                    </m:f>
                    <m:r>
                      <m:t xml:space="preserve">×</m:t>
                    </m:r>
                    <m:r>
                      <m:t xml:space="preserve">π</m:t>
                    </m:r>
                    <m:r>
                      <m:t xml:space="preserve">×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8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1027080" y="5635800"/>
                <a:ext cx="15447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37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"/>
              <p:cNvSpPr txBox="1"/>
              <p:nvPr/>
            </p:nvSpPr>
            <p:spPr>
              <a:xfrm>
                <a:off x="6013440" y="3284640"/>
                <a:ext cx="20876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0</m:t>
                        </m:r>
                      </m:den>
                    </m:f>
                    <m:r>
                      <m:t xml:space="preserve">×</m:t>
                    </m:r>
                    <m:r>
                      <m:t xml:space="preserve">π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5899320" y="4341960"/>
                <a:ext cx="231588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2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0</m:t>
                        </m:r>
                      </m:den>
                    </m:f>
                    <m:r>
                      <m:t xml:space="preserve">×</m:t>
                    </m:r>
                    <m:r>
                      <m:t xml:space="preserve">π</m:t>
                    </m:r>
                    <m:r>
                      <m:t xml:space="preserve"> </m:t>
                    </m:r>
                    <m:r>
                      <m:t xml:space="preserve">×</m:t>
                    </m:r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6156360" y="5635800"/>
                <a:ext cx="18018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9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9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76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2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area of the follow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4" name=""/>
              <p:cNvSpPr txBox="1"/>
              <p:nvPr/>
            </p:nvSpPr>
            <p:spPr>
              <a:xfrm>
                <a:off x="755640" y="3284640"/>
                <a:ext cx="20876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0</m:t>
                        </m:r>
                      </m:den>
                    </m:f>
                    <m:r>
                      <m:t xml:space="preserve">×</m:t>
                    </m:r>
                    <m:r>
                      <m:t xml:space="preserve">π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641520" y="4341960"/>
                <a:ext cx="231588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2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0</m:t>
                        </m:r>
                      </m:den>
                    </m:f>
                    <m:r>
                      <m:t xml:space="preserve">×</m:t>
                    </m:r>
                    <m:r>
                      <m:t xml:space="preserve">π</m:t>
                    </m:r>
                    <m:r>
                      <m:t xml:space="preserve">×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9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1041480" y="5635800"/>
                <a:ext cx="15159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1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6013440" y="3284640"/>
                <a:ext cx="20876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0</m:t>
                        </m:r>
                      </m:den>
                    </m:f>
                    <m:r>
                      <m:t xml:space="preserve">×</m:t>
                    </m:r>
                    <m:r>
                      <m:t xml:space="preserve">π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5913360" y="4341960"/>
                <a:ext cx="228780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0</m:t>
                        </m:r>
                      </m:den>
                    </m:f>
                    <m:r>
                      <m:t xml:space="preserve">×</m:t>
                    </m:r>
                    <m:r>
                      <m:t xml:space="preserve">π</m:t>
                    </m:r>
                    <m:r>
                      <m:t xml:space="preserve">×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6242040" y="5635800"/>
                <a:ext cx="16304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4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310" name=""/>
          <p:cNvGrpSpPr/>
          <p:nvPr/>
        </p:nvGrpSpPr>
        <p:grpSpPr>
          <a:xfrm>
            <a:off x="385920" y="1224000"/>
            <a:ext cx="3394080" cy="2133000"/>
            <a:chOff x="385920" y="1224000"/>
            <a:chExt cx="3394080" cy="2133000"/>
          </a:xfrm>
        </p:grpSpPr>
        <p:grpSp>
          <p:nvGrpSpPr>
            <p:cNvPr id="311" name=""/>
            <p:cNvGrpSpPr/>
            <p:nvPr/>
          </p:nvGrpSpPr>
          <p:grpSpPr>
            <a:xfrm>
              <a:off x="385920" y="1224000"/>
              <a:ext cx="3124080" cy="2133000"/>
              <a:chOff x="385920" y="1224000"/>
              <a:chExt cx="3124080" cy="2133000"/>
            </a:xfrm>
          </p:grpSpPr>
          <p:sp>
            <p:nvSpPr>
              <p:cNvPr id="312" name=""/>
              <p:cNvSpPr/>
              <p:nvPr/>
            </p:nvSpPr>
            <p:spPr>
              <a:xfrm>
                <a:off x="884520" y="1224000"/>
                <a:ext cx="2133360" cy="2057040"/>
              </a:xfrm>
              <a:prstGeom prst="ellipse">
                <a:avLst/>
              </a:prstGeom>
              <a:solidFill>
                <a:srgbClr val="ff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85920" y="2214360"/>
                <a:ext cx="3124080" cy="11426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4" name=""/>
            <p:cNvSpPr/>
            <p:nvPr/>
          </p:nvSpPr>
          <p:spPr>
            <a:xfrm>
              <a:off x="1569960" y="229068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132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179800" y="198576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9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"/>
          <p:cNvGrpSpPr/>
          <p:nvPr/>
        </p:nvGrpSpPr>
        <p:grpSpPr>
          <a:xfrm>
            <a:off x="6012000" y="1268280"/>
            <a:ext cx="2057400" cy="1752480"/>
            <a:chOff x="6012000" y="1268280"/>
            <a:chExt cx="2057400" cy="1752480"/>
          </a:xfrm>
        </p:grpSpPr>
        <p:sp>
          <p:nvSpPr>
            <p:cNvPr id="317" name=""/>
            <p:cNvSpPr/>
            <p:nvPr/>
          </p:nvSpPr>
          <p:spPr>
            <a:xfrm>
              <a:off x="6012000" y="1268280"/>
              <a:ext cx="1752480" cy="17524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>
              <a:off x="6392880" y="2182680"/>
              <a:ext cx="457200" cy="68580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850080" y="2182680"/>
              <a:ext cx="304920" cy="76212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545160" y="172548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319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926400" y="218268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5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7740720" y="1916280"/>
            <a:ext cx="13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or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3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7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1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3" dur="4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4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3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0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length of the follow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678240" y="1011600"/>
            <a:ext cx="2453400" cy="2193480"/>
            <a:chOff x="678240" y="1011600"/>
            <a:chExt cx="2453400" cy="2193480"/>
          </a:xfrm>
        </p:grpSpPr>
        <p:grpSp>
          <p:nvGrpSpPr>
            <p:cNvPr id="325" name=""/>
            <p:cNvGrpSpPr/>
            <p:nvPr/>
          </p:nvGrpSpPr>
          <p:grpSpPr>
            <a:xfrm>
              <a:off x="678240" y="1011600"/>
              <a:ext cx="2193120" cy="2193480"/>
              <a:chOff x="678240" y="1011600"/>
              <a:chExt cx="2193120" cy="2193480"/>
            </a:xfrm>
          </p:grpSpPr>
          <p:sp>
            <p:nvSpPr>
              <p:cNvPr id="326" name=""/>
              <p:cNvSpPr/>
              <p:nvPr/>
            </p:nvSpPr>
            <p:spPr>
              <a:xfrm rot="17562000">
                <a:off x="924840" y="1258560"/>
                <a:ext cx="1600200" cy="15998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7562000">
                <a:off x="1235160" y="1762920"/>
                <a:ext cx="1752480" cy="914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8" name=""/>
            <p:cNvSpPr/>
            <p:nvPr/>
          </p:nvSpPr>
          <p:spPr>
            <a:xfrm>
              <a:off x="1074600" y="1828800"/>
              <a:ext cx="129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247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836360" y="2209680"/>
              <a:ext cx="129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7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6227640" y="1231920"/>
            <a:ext cx="2210040" cy="1980720"/>
            <a:chOff x="6227640" y="1231920"/>
            <a:chExt cx="2210040" cy="1980720"/>
          </a:xfrm>
        </p:grpSpPr>
        <p:grpSp>
          <p:nvGrpSpPr>
            <p:cNvPr id="331" name=""/>
            <p:cNvGrpSpPr/>
            <p:nvPr/>
          </p:nvGrpSpPr>
          <p:grpSpPr>
            <a:xfrm>
              <a:off x="6227640" y="1231920"/>
              <a:ext cx="1600200" cy="1980720"/>
              <a:chOff x="6227640" y="1231920"/>
              <a:chExt cx="1600200" cy="1980720"/>
            </a:xfrm>
          </p:grpSpPr>
          <p:sp>
            <p:nvSpPr>
              <p:cNvPr id="332" name=""/>
              <p:cNvSpPr/>
              <p:nvPr/>
            </p:nvSpPr>
            <p:spPr>
              <a:xfrm>
                <a:off x="6227640" y="1231920"/>
                <a:ext cx="1600200" cy="15998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6456240" y="1993680"/>
                <a:ext cx="1067040" cy="12189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4" name=""/>
            <p:cNvSpPr/>
            <p:nvPr/>
          </p:nvSpPr>
          <p:spPr>
            <a:xfrm>
              <a:off x="6761160" y="2222280"/>
              <a:ext cx="129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33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142040" y="2054160"/>
              <a:ext cx="129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3c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36" name=""/>
              <p:cNvSpPr txBox="1"/>
              <p:nvPr/>
            </p:nvSpPr>
            <p:spPr>
              <a:xfrm>
                <a:off x="798480" y="3284640"/>
                <a:ext cx="200196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0</m:t>
                        </m:r>
                      </m:den>
                    </m:f>
                    <m:r>
                      <m:t xml:space="preserve">×</m:t>
                    </m:r>
                    <m:r>
                      <m:t xml:space="preserve">π</m:t>
                    </m:r>
                    <m:r>
                      <m:t xml:space="preserve"> 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" name=""/>
              <p:cNvSpPr txBox="1"/>
              <p:nvPr/>
            </p:nvSpPr>
            <p:spPr>
              <a:xfrm>
                <a:off x="641520" y="4341960"/>
                <a:ext cx="231588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0</m:t>
                        </m:r>
                      </m:den>
                    </m:f>
                    <m:r>
                      <m:t xml:space="preserve">×</m:t>
                    </m:r>
                    <m:r>
                      <m:t xml:space="preserve">π</m:t>
                    </m:r>
                    <m:r>
                      <m:t xml:space="preserve"> 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8" name=""/>
              <p:cNvSpPr txBox="1"/>
              <p:nvPr/>
            </p:nvSpPr>
            <p:spPr>
              <a:xfrm>
                <a:off x="1041480" y="5664240"/>
                <a:ext cx="151596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9" name=""/>
              <p:cNvSpPr txBox="1"/>
              <p:nvPr/>
            </p:nvSpPr>
            <p:spPr>
              <a:xfrm>
                <a:off x="6056280" y="3284640"/>
                <a:ext cx="200196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0</m:t>
                        </m:r>
                      </m:den>
                    </m:f>
                    <m:r>
                      <m:t xml:space="preserve">×</m:t>
                    </m:r>
                    <m:r>
                      <m:t xml:space="preserve">π</m:t>
                    </m:r>
                    <m:r>
                      <m:t xml:space="preserve"> 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0" name=""/>
              <p:cNvSpPr txBox="1"/>
              <p:nvPr/>
            </p:nvSpPr>
            <p:spPr>
              <a:xfrm>
                <a:off x="5970600" y="4341960"/>
                <a:ext cx="217152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2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0</m:t>
                        </m:r>
                      </m:den>
                    </m:f>
                    <m:r>
                      <m:t xml:space="preserve">×</m:t>
                    </m:r>
                    <m:r>
                      <m:t xml:space="preserve">π</m:t>
                    </m:r>
                    <m:r>
                      <m:t xml:space="preserve">×</m:t>
                    </m:r>
                    <m:r>
                      <m:t xml:space="preserve"> 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1" name=""/>
              <p:cNvSpPr txBox="1"/>
              <p:nvPr/>
            </p:nvSpPr>
            <p:spPr>
              <a:xfrm>
                <a:off x="6256440" y="5664240"/>
                <a:ext cx="16016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cm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7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2" dur="80"/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3" dur="80"/>
                                        <p:tgtEl>
                                          <p:spTgt spid="3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4" dur="80"/>
                                        <p:tgtEl>
                                          <p:spTgt spid="3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9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56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6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6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1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length of the follow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3" name=""/>
              <p:cNvSpPr txBox="1"/>
              <p:nvPr/>
            </p:nvSpPr>
            <p:spPr>
              <a:xfrm>
                <a:off x="798480" y="3284640"/>
                <a:ext cx="200196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0</m:t>
                        </m:r>
                      </m:den>
                    </m:f>
                    <m:r>
                      <m:t xml:space="preserve">×</m:t>
                    </m:r>
                    <m:r>
                      <m:t xml:space="preserve">π</m:t>
                    </m:r>
                    <m:r>
                      <m:t xml:space="preserve"> 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" name=""/>
              <p:cNvSpPr txBox="1"/>
              <p:nvPr/>
            </p:nvSpPr>
            <p:spPr>
              <a:xfrm>
                <a:off x="655560" y="4341960"/>
                <a:ext cx="228780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2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0</m:t>
                        </m:r>
                      </m:den>
                    </m:f>
                    <m:r>
                      <m:t xml:space="preserve">×</m:t>
                    </m:r>
                    <m:r>
                      <m:t xml:space="preserve">π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" name=""/>
              <p:cNvSpPr txBox="1"/>
              <p:nvPr/>
            </p:nvSpPr>
            <p:spPr>
              <a:xfrm>
                <a:off x="1055520" y="5664240"/>
                <a:ext cx="14875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" name=""/>
              <p:cNvSpPr txBox="1"/>
              <p:nvPr/>
            </p:nvSpPr>
            <p:spPr>
              <a:xfrm>
                <a:off x="6056280" y="3284640"/>
                <a:ext cx="200196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0</m:t>
                        </m:r>
                      </m:den>
                    </m:f>
                    <m:r>
                      <m:t xml:space="preserve">×</m:t>
                    </m:r>
                    <m:r>
                      <m:t xml:space="preserve">π</m:t>
                    </m:r>
                    <m:r>
                      <m:t xml:space="preserve"> 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7" name=""/>
              <p:cNvSpPr txBox="1"/>
              <p:nvPr/>
            </p:nvSpPr>
            <p:spPr>
              <a:xfrm>
                <a:off x="5913360" y="4341960"/>
                <a:ext cx="228780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0</m:t>
                        </m:r>
                      </m:den>
                    </m:f>
                    <m:r>
                      <m:t xml:space="preserve">×</m:t>
                    </m:r>
                    <m:r>
                      <m:t xml:space="preserve">π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" name=""/>
              <p:cNvSpPr txBox="1"/>
              <p:nvPr/>
            </p:nvSpPr>
            <p:spPr>
              <a:xfrm>
                <a:off x="6299280" y="5664240"/>
                <a:ext cx="151596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9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49" name=""/>
          <p:cNvGrpSpPr/>
          <p:nvPr/>
        </p:nvGrpSpPr>
        <p:grpSpPr>
          <a:xfrm>
            <a:off x="385920" y="1224000"/>
            <a:ext cx="3394080" cy="2133000"/>
            <a:chOff x="385920" y="1224000"/>
            <a:chExt cx="3394080" cy="2133000"/>
          </a:xfrm>
        </p:grpSpPr>
        <p:grpSp>
          <p:nvGrpSpPr>
            <p:cNvPr id="350" name=""/>
            <p:cNvGrpSpPr/>
            <p:nvPr/>
          </p:nvGrpSpPr>
          <p:grpSpPr>
            <a:xfrm>
              <a:off x="385920" y="1224000"/>
              <a:ext cx="3124080" cy="2133000"/>
              <a:chOff x="385920" y="1224000"/>
              <a:chExt cx="3124080" cy="2133000"/>
            </a:xfrm>
          </p:grpSpPr>
          <p:sp>
            <p:nvSpPr>
              <p:cNvPr id="351" name=""/>
              <p:cNvSpPr/>
              <p:nvPr/>
            </p:nvSpPr>
            <p:spPr>
              <a:xfrm>
                <a:off x="884520" y="1224000"/>
                <a:ext cx="2133360" cy="2057040"/>
              </a:xfrm>
              <a:prstGeom prst="ellipse">
                <a:avLst/>
              </a:prstGeom>
              <a:solidFill>
                <a:srgbClr val="ff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385920" y="2214360"/>
                <a:ext cx="3124080" cy="11426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3" name=""/>
            <p:cNvSpPr/>
            <p:nvPr/>
          </p:nvSpPr>
          <p:spPr>
            <a:xfrm>
              <a:off x="1569960" y="229068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135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179800" y="198576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9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6012000" y="1268280"/>
            <a:ext cx="2057400" cy="1752480"/>
            <a:chOff x="6012000" y="1268280"/>
            <a:chExt cx="2057400" cy="1752480"/>
          </a:xfrm>
        </p:grpSpPr>
        <p:sp>
          <p:nvSpPr>
            <p:cNvPr id="356" name=""/>
            <p:cNvSpPr/>
            <p:nvPr/>
          </p:nvSpPr>
          <p:spPr>
            <a:xfrm>
              <a:off x="6012000" y="1268280"/>
              <a:ext cx="1752480" cy="17524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 flipH="1">
              <a:off x="6392880" y="2182680"/>
              <a:ext cx="457200" cy="68580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850080" y="2182680"/>
              <a:ext cx="304920" cy="76212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545160" y="172548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320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926400" y="218268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5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1" name=""/>
          <p:cNvSpPr/>
          <p:nvPr/>
        </p:nvSpPr>
        <p:spPr>
          <a:xfrm>
            <a:off x="7740720" y="1916280"/>
            <a:ext cx="13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or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2" dur="indefinite" restart="never" nodeType="tmRoot">
          <p:childTnLst>
            <p:seq>
              <p:cTn id="673" dur="indefinite" nodeType="mainSeq">
                <p:childTnLst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8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85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2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15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15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3" dur="80"/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4" dur="80"/>
                                        <p:tgtEl>
                                          <p:spTgt spid="3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5" dur="80"/>
                                        <p:tgtEl>
                                          <p:spTgt spid="3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2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the area find the following ang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677160" y="1010160"/>
            <a:ext cx="2454840" cy="2193840"/>
            <a:chOff x="677160" y="1010160"/>
            <a:chExt cx="2454840" cy="2193840"/>
          </a:xfrm>
        </p:grpSpPr>
        <p:sp>
          <p:nvSpPr>
            <p:cNvPr id="364" name=""/>
            <p:cNvSpPr/>
            <p:nvPr/>
          </p:nvSpPr>
          <p:spPr>
            <a:xfrm rot="17562000">
              <a:off x="923760" y="1256760"/>
              <a:ext cx="1600200" cy="160020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 rot="17562000">
              <a:off x="1234800" y="1761840"/>
              <a:ext cx="1752480" cy="9144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074600" y="1828800"/>
              <a:ext cx="129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x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836720" y="2209680"/>
              <a:ext cx="129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8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6227640" y="1231920"/>
            <a:ext cx="2210040" cy="1981080"/>
            <a:chOff x="6227640" y="1231920"/>
            <a:chExt cx="2210040" cy="1981080"/>
          </a:xfrm>
        </p:grpSpPr>
        <p:sp>
          <p:nvSpPr>
            <p:cNvPr id="369" name=""/>
            <p:cNvSpPr/>
            <p:nvPr/>
          </p:nvSpPr>
          <p:spPr>
            <a:xfrm>
              <a:off x="6227640" y="1231920"/>
              <a:ext cx="1600200" cy="1600200"/>
            </a:xfrm>
            <a:prstGeom prst="ellipse">
              <a:avLst/>
            </a:prstGeom>
            <a:solidFill>
              <a:srgbClr val="cc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456240" y="1994040"/>
              <a:ext cx="1067040" cy="1218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761160" y="2222640"/>
              <a:ext cx="129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x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142040" y="2054160"/>
              <a:ext cx="129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4c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73" name=""/>
              <p:cNvSpPr txBox="1"/>
              <p:nvPr/>
            </p:nvSpPr>
            <p:spPr>
              <a:xfrm>
                <a:off x="755640" y="3141720"/>
                <a:ext cx="20876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0</m:t>
                        </m:r>
                      </m:den>
                    </m:f>
                    <m:r>
                      <m:t xml:space="preserve">×</m:t>
                    </m:r>
                    <m:r>
                      <m:t xml:space="preserve">π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4" name=""/>
              <p:cNvSpPr txBox="1"/>
              <p:nvPr/>
            </p:nvSpPr>
            <p:spPr>
              <a:xfrm>
                <a:off x="512640" y="4005360"/>
                <a:ext cx="25736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0</m:t>
                        </m:r>
                      </m:den>
                    </m:f>
                    <m:r>
                      <m:t xml:space="preserve">×</m:t>
                    </m:r>
                    <m:r>
                      <m:t xml:space="preserve">π</m:t>
                    </m:r>
                    <m:r>
                      <m:t xml:space="preserve">×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8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5" name=""/>
              <p:cNvSpPr txBox="1"/>
              <p:nvPr/>
            </p:nvSpPr>
            <p:spPr>
              <a:xfrm>
                <a:off x="755640" y="4941720"/>
                <a:ext cx="194472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0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360</m:t>
                        </m:r>
                      </m:num>
                      <m:den>
                        <m:r>
                          <m:t xml:space="preserve">π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t xml:space="preserve">8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" name=""/>
              <p:cNvSpPr txBox="1"/>
              <p:nvPr/>
            </p:nvSpPr>
            <p:spPr>
              <a:xfrm>
                <a:off x="6013440" y="3046320"/>
                <a:ext cx="20876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0</m:t>
                        </m:r>
                      </m:den>
                    </m:f>
                    <m:r>
                      <m:t xml:space="preserve">×</m:t>
                    </m:r>
                    <m:r>
                      <m:t xml:space="preserve">π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" name=""/>
              <p:cNvSpPr txBox="1"/>
              <p:nvPr/>
            </p:nvSpPr>
            <p:spPr>
              <a:xfrm>
                <a:off x="5856120" y="3981600"/>
                <a:ext cx="246096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0</m:t>
                        </m:r>
                      </m:den>
                    </m:f>
                    <m:r>
                      <m:t xml:space="preserve">×</m:t>
                    </m:r>
                    <m:r>
                      <m:t xml:space="preserve">π</m:t>
                    </m:r>
                    <m:r>
                      <m:t xml:space="preserve"> </m:t>
                    </m:r>
                    <m:r>
                      <m:t xml:space="preserve">×</m:t>
                    </m:r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8" name=""/>
          <p:cNvSpPr/>
          <p:nvPr/>
        </p:nvSpPr>
        <p:spPr>
          <a:xfrm>
            <a:off x="2627280" y="148428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= 140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7667640" y="105264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= 46c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0" name=""/>
              <p:cNvSpPr txBox="1"/>
              <p:nvPr/>
            </p:nvSpPr>
            <p:spPr>
              <a:xfrm>
                <a:off x="1082520" y="6024600"/>
                <a:ext cx="1287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251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" name=""/>
              <p:cNvSpPr txBox="1"/>
              <p:nvPr/>
            </p:nvSpPr>
            <p:spPr>
              <a:xfrm>
                <a:off x="6140520" y="4941720"/>
                <a:ext cx="183024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6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360</m:t>
                        </m:r>
                      </m:num>
                      <m:den>
                        <m:r>
                          <m:t xml:space="preserve">π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2" name=""/>
              <p:cNvSpPr txBox="1"/>
              <p:nvPr/>
            </p:nvSpPr>
            <p:spPr>
              <a:xfrm>
                <a:off x="5423040" y="5992920"/>
                <a:ext cx="16891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329</m:t>
                    </m:r>
                    <m:r>
                      <m:t xml:space="preserve">°</m:t>
                    </m:r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3" name=""/>
              <p:cNvSpPr txBox="1"/>
              <p:nvPr/>
            </p:nvSpPr>
            <p:spPr>
              <a:xfrm>
                <a:off x="7429680" y="5981760"/>
                <a:ext cx="108900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31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2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8" dur="2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2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4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51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56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1" dur="2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66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71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the Length find the following ang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677160" y="1010160"/>
            <a:ext cx="2454840" cy="2193840"/>
            <a:chOff x="677160" y="1010160"/>
            <a:chExt cx="2454840" cy="2193840"/>
          </a:xfrm>
        </p:grpSpPr>
        <p:sp>
          <p:nvSpPr>
            <p:cNvPr id="386" name=""/>
            <p:cNvSpPr/>
            <p:nvPr/>
          </p:nvSpPr>
          <p:spPr>
            <a:xfrm rot="17562000">
              <a:off x="923760" y="1256760"/>
              <a:ext cx="1600200" cy="16002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 rot="17562000">
              <a:off x="1234800" y="1761840"/>
              <a:ext cx="1752480" cy="9144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074600" y="1828800"/>
              <a:ext cx="129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x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836720" y="2209680"/>
              <a:ext cx="129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8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0" name=""/>
          <p:cNvGrpSpPr/>
          <p:nvPr/>
        </p:nvGrpSpPr>
        <p:grpSpPr>
          <a:xfrm>
            <a:off x="6227640" y="1231920"/>
            <a:ext cx="2210040" cy="1981080"/>
            <a:chOff x="6227640" y="1231920"/>
            <a:chExt cx="2210040" cy="1981080"/>
          </a:xfrm>
        </p:grpSpPr>
        <p:sp>
          <p:nvSpPr>
            <p:cNvPr id="391" name=""/>
            <p:cNvSpPr/>
            <p:nvPr/>
          </p:nvSpPr>
          <p:spPr>
            <a:xfrm>
              <a:off x="6227640" y="1231920"/>
              <a:ext cx="1600200" cy="1600200"/>
            </a:xfrm>
            <a:prstGeom prst="ellipse">
              <a:avLst/>
            </a:prstGeom>
            <a:solidFill>
              <a:srgbClr val="00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456240" y="1994040"/>
              <a:ext cx="1067040" cy="1218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761160" y="2222640"/>
              <a:ext cx="129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x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142040" y="2054160"/>
              <a:ext cx="129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4c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95" name=""/>
              <p:cNvSpPr txBox="1"/>
              <p:nvPr/>
            </p:nvSpPr>
            <p:spPr>
              <a:xfrm>
                <a:off x="798480" y="3141720"/>
                <a:ext cx="200196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0</m:t>
                        </m:r>
                      </m:den>
                    </m:f>
                    <m:r>
                      <m:t xml:space="preserve">×</m:t>
                    </m:r>
                    <m:r>
                      <m:t xml:space="preserve">π</m:t>
                    </m:r>
                    <m:r>
                      <m:t xml:space="preserve"> 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6" name=""/>
              <p:cNvSpPr txBox="1"/>
              <p:nvPr/>
            </p:nvSpPr>
            <p:spPr>
              <a:xfrm>
                <a:off x="584280" y="4005360"/>
                <a:ext cx="243036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0</m:t>
                        </m:r>
                      </m:den>
                    </m:f>
                    <m:r>
                      <m:t xml:space="preserve">×</m:t>
                    </m:r>
                    <m:r>
                      <m:t xml:space="preserve">π</m:t>
                    </m:r>
                    <m:r>
                      <m:t xml:space="preserve">×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7" name=""/>
              <p:cNvSpPr txBox="1"/>
              <p:nvPr/>
            </p:nvSpPr>
            <p:spPr>
              <a:xfrm>
                <a:off x="841320" y="4941720"/>
                <a:ext cx="177336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360</m:t>
                        </m:r>
                      </m:num>
                      <m:den>
                        <m:r>
                          <m:t xml:space="preserve">π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8" name=""/>
              <p:cNvSpPr txBox="1"/>
              <p:nvPr/>
            </p:nvSpPr>
            <p:spPr>
              <a:xfrm>
                <a:off x="6056280" y="3046320"/>
                <a:ext cx="200196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0</m:t>
                        </m:r>
                      </m:den>
                    </m:f>
                    <m:r>
                      <m:t xml:space="preserve">×</m:t>
                    </m:r>
                    <m:r>
                      <m:t xml:space="preserve">π</m:t>
                    </m:r>
                    <m:r>
                      <m:t xml:space="preserve"> 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9" name=""/>
              <p:cNvSpPr txBox="1"/>
              <p:nvPr/>
            </p:nvSpPr>
            <p:spPr>
              <a:xfrm>
                <a:off x="5942160" y="3981600"/>
                <a:ext cx="229068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0</m:t>
                        </m:r>
                      </m:den>
                    </m:f>
                    <m:r>
                      <m:t xml:space="preserve">×</m:t>
                    </m:r>
                    <m:r>
                      <m:t xml:space="preserve">π</m:t>
                    </m:r>
                    <m:r>
                      <m:t xml:space="preserve"> </m:t>
                    </m:r>
                    <m:r>
                      <m:t xml:space="preserve">×</m:t>
                    </m:r>
                    <m:r>
                      <m:t xml:space="preserve">8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0" name=""/>
          <p:cNvSpPr/>
          <p:nvPr/>
        </p:nvSpPr>
        <p:spPr>
          <a:xfrm>
            <a:off x="2627280" y="148428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= 35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7667640" y="105264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= 22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2" name=""/>
              <p:cNvSpPr txBox="1"/>
              <p:nvPr/>
            </p:nvSpPr>
            <p:spPr>
              <a:xfrm>
                <a:off x="1082520" y="6024600"/>
                <a:ext cx="1287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251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3" name=""/>
              <p:cNvSpPr txBox="1"/>
              <p:nvPr/>
            </p:nvSpPr>
            <p:spPr>
              <a:xfrm>
                <a:off x="6140520" y="4941720"/>
                <a:ext cx="183024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360</m:t>
                        </m:r>
                      </m:num>
                      <m:den>
                        <m:r>
                          <m:t xml:space="preserve">π</m:t>
                        </m:r>
                        <m:r>
                          <m:t xml:space="preserve">×</m:t>
                        </m:r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4" name=""/>
              <p:cNvSpPr txBox="1"/>
              <p:nvPr/>
            </p:nvSpPr>
            <p:spPr>
              <a:xfrm>
                <a:off x="5423040" y="5992920"/>
                <a:ext cx="16891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315</m:t>
                    </m:r>
                    <m:r>
                      <m:t xml:space="preserve">°</m:t>
                    </m:r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5" name=""/>
              <p:cNvSpPr txBox="1"/>
              <p:nvPr/>
            </p:nvSpPr>
            <p:spPr>
              <a:xfrm>
                <a:off x="7415280" y="5981760"/>
                <a:ext cx="11174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2" dur="indefinite" restart="never" nodeType="tmRoot">
          <p:childTnLst>
            <p:seq>
              <p:cTn id="773" dur="indefinite" nodeType="mainSeq">
                <p:childTnLst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2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87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7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8" dur="2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2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04" dur="2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09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15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15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0" dur="80"/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1" dur="80"/>
                                        <p:tgtEl>
                                          <p:spTgt spid="4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2" dur="80"/>
                                        <p:tgtEl>
                                          <p:spTgt spid="4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7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nd the missing angles a°, b°, c°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1964880" y="1859040"/>
            <a:ext cx="4528800" cy="4511520"/>
            <a:chOff x="1964880" y="1859040"/>
            <a:chExt cx="4528800" cy="4511520"/>
          </a:xfrm>
        </p:grpSpPr>
        <p:grpSp>
          <p:nvGrpSpPr>
            <p:cNvPr id="408" name=""/>
            <p:cNvGrpSpPr/>
            <p:nvPr/>
          </p:nvGrpSpPr>
          <p:grpSpPr>
            <a:xfrm>
              <a:off x="1964880" y="1859040"/>
              <a:ext cx="4528800" cy="4511520"/>
              <a:chOff x="1964880" y="1859040"/>
              <a:chExt cx="4528800" cy="4511520"/>
            </a:xfrm>
          </p:grpSpPr>
          <p:sp>
            <p:nvSpPr>
              <p:cNvPr id="409" name=""/>
              <p:cNvSpPr/>
              <p:nvPr/>
            </p:nvSpPr>
            <p:spPr>
              <a:xfrm rot="19455600">
                <a:off x="2590920" y="2514240"/>
                <a:ext cx="3276360" cy="32004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flipV="1">
                <a:off x="2899440" y="3157920"/>
                <a:ext cx="2659320" cy="1913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flipH="1" flipV="1">
                <a:off x="2778480" y="3468600"/>
                <a:ext cx="1481400" cy="623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 flipH="1" flipV="1">
                <a:off x="2778480" y="3468600"/>
                <a:ext cx="120960" cy="1603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 flipV="1">
                <a:off x="2778480" y="3157920"/>
                <a:ext cx="2780280" cy="310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4" name=""/>
            <p:cNvSpPr/>
            <p:nvPr/>
          </p:nvSpPr>
          <p:spPr>
            <a:xfrm>
              <a:off x="4114800" y="4114800"/>
              <a:ext cx="53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5" name=""/>
          <p:cNvSpPr/>
          <p:nvPr/>
        </p:nvSpPr>
        <p:spPr>
          <a:xfrm>
            <a:off x="2836800" y="451332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48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2819520" y="358128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a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657600" y="396252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b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4724280" y="320040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c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6400800" y="25146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° = 48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6400800" y="29718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° = 84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6400800" y="3429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° = 42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0" dur="indefinite" restart="never" nodeType="tmRoot">
          <p:childTnLst>
            <p:seq>
              <p:cTn id="831" dur="indefinite" nodeType="mainSeq">
                <p:childTnLst>
                  <p:par>
                    <p:cTn id="832" fill="hold">
                      <p:stCondLst>
                        <p:cond delay="0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8" fill="hold">
                            <p:stCondLst>
                              <p:cond delay="2500"/>
                            </p:stCondLst>
                            <p:childTnLst>
                              <p:par>
                                <p:cTn id="83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4000"/>
                            </p:stCondLst>
                            <p:childTnLst>
                              <p:par>
                                <p:cTn id="84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5500"/>
                            </p:stCondLst>
                            <p:childTnLst>
                              <p:par>
                                <p:cTn id="84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7000"/>
                            </p:stCondLst>
                            <p:childTnLst>
                              <p:par>
                                <p:cTn id="85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nd the missing length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588960" y="1675800"/>
            <a:ext cx="4447440" cy="4420440"/>
            <a:chOff x="588960" y="1675800"/>
            <a:chExt cx="4447440" cy="4420440"/>
          </a:xfrm>
        </p:grpSpPr>
        <p:grpSp>
          <p:nvGrpSpPr>
            <p:cNvPr id="424" name=""/>
            <p:cNvGrpSpPr/>
            <p:nvPr/>
          </p:nvGrpSpPr>
          <p:grpSpPr>
            <a:xfrm>
              <a:off x="588960" y="1675800"/>
              <a:ext cx="4447440" cy="4420440"/>
              <a:chOff x="588960" y="1675800"/>
              <a:chExt cx="4447440" cy="4420440"/>
            </a:xfrm>
          </p:grpSpPr>
          <p:sp>
            <p:nvSpPr>
              <p:cNvPr id="425" name=""/>
              <p:cNvSpPr/>
              <p:nvPr/>
            </p:nvSpPr>
            <p:spPr>
              <a:xfrm rot="19768800">
                <a:off x="1174320" y="2286000"/>
                <a:ext cx="3276360" cy="3200040"/>
              </a:xfrm>
              <a:prstGeom prst="ellipse">
                <a:avLst/>
              </a:prstGeom>
              <a:solidFill>
                <a:srgbClr val="cce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 flipV="1">
                <a:off x="1401480" y="3053880"/>
                <a:ext cx="2822400" cy="1663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 flipV="1">
                <a:off x="1401480" y="2412360"/>
                <a:ext cx="2178720" cy="2305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 flipH="1" flipV="1">
                <a:off x="3579840" y="2412360"/>
                <a:ext cx="643680" cy="641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 rot="19768800">
                <a:off x="2744640" y="3779640"/>
                <a:ext cx="152280" cy="1598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0" name=""/>
            <p:cNvSpPr/>
            <p:nvPr/>
          </p:nvSpPr>
          <p:spPr>
            <a:xfrm>
              <a:off x="2317680" y="304812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698920" y="38862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11c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917880" y="22860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3c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3" name=""/>
          <p:cNvSpPr/>
          <p:nvPr/>
        </p:nvSpPr>
        <p:spPr>
          <a:xfrm rot="19105800">
            <a:off x="3508200" y="2457000"/>
            <a:ext cx="142920" cy="1285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5715000" y="217188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hy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b</a:t>
            </a:r>
            <a:r>
              <a:rPr b="0" lang="en-GB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+ c</a:t>
            </a:r>
            <a:r>
              <a:rPr b="0" lang="en-GB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5715000" y="288756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en-GB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x</a:t>
            </a:r>
            <a:r>
              <a:rPr b="0" lang="en-GB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+ 3</a:t>
            </a:r>
            <a:r>
              <a:rPr b="0" lang="en-GB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5715000" y="354348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21 = x</a:t>
            </a:r>
            <a:r>
              <a:rPr b="0" lang="en-GB" sz="32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+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5715000" y="425916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121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5715000" y="494496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x =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12 = 10.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6" dur="indefinite" restart="never" nodeType="tmRoot">
          <p:childTnLst>
            <p:seq>
              <p:cTn id="877" dur="indefinite" nodeType="mainSeq">
                <p:childTnLst>
                  <p:par>
                    <p:cTn id="878" fill="hold">
                      <p:stCondLst>
                        <p:cond delay="0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4" fill="hold">
                            <p:stCondLst>
                              <p:cond delay="2500"/>
                            </p:stCondLst>
                            <p:childTnLst>
                              <p:par>
                                <p:cTn id="88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93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98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03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08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13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nd the missing angle x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0" name=""/>
          <p:cNvGrpSpPr/>
          <p:nvPr/>
        </p:nvGrpSpPr>
        <p:grpSpPr>
          <a:xfrm>
            <a:off x="658440" y="1789920"/>
            <a:ext cx="4447080" cy="4344480"/>
            <a:chOff x="658440" y="1789920"/>
            <a:chExt cx="4447080" cy="4344480"/>
          </a:xfrm>
        </p:grpSpPr>
        <p:grpSp>
          <p:nvGrpSpPr>
            <p:cNvPr id="441" name=""/>
            <p:cNvGrpSpPr/>
            <p:nvPr/>
          </p:nvGrpSpPr>
          <p:grpSpPr>
            <a:xfrm>
              <a:off x="658440" y="1789920"/>
              <a:ext cx="4397400" cy="4344480"/>
              <a:chOff x="658440" y="1789920"/>
              <a:chExt cx="4397400" cy="4344480"/>
            </a:xfrm>
          </p:grpSpPr>
          <p:sp>
            <p:nvSpPr>
              <p:cNvPr id="442" name=""/>
              <p:cNvSpPr/>
              <p:nvPr/>
            </p:nvSpPr>
            <p:spPr>
              <a:xfrm rot="11743200">
                <a:off x="1066320" y="2209320"/>
                <a:ext cx="3581640" cy="3505320"/>
              </a:xfrm>
              <a:prstGeom prst="ellipse">
                <a:avLst/>
              </a:prstGeom>
              <a:solidFill>
                <a:srgbClr val="99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 flipH="1" flipV="1">
                <a:off x="1133280" y="3476520"/>
                <a:ext cx="3447720" cy="970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 flipV="1">
                <a:off x="2806560" y="4447080"/>
                <a:ext cx="1774440" cy="1242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flipH="1" flipV="1">
                <a:off x="1133280" y="3476520"/>
                <a:ext cx="1673280" cy="2212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 rot="11743200">
                <a:off x="2794680" y="388944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7" name=""/>
            <p:cNvSpPr/>
            <p:nvPr/>
          </p:nvSpPr>
          <p:spPr>
            <a:xfrm>
              <a:off x="3886200" y="426708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x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905120" y="4267080"/>
              <a:ext cx="99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12 c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666880" y="335268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14 c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0" name=""/>
          <p:cNvSpPr/>
          <p:nvPr/>
        </p:nvSpPr>
        <p:spPr>
          <a:xfrm>
            <a:off x="1219320" y="441972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666880" y="28954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y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3657600" y="51055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d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5724360" y="27432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OH CAH T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4" name=""/>
              <p:cNvSpPr txBox="1"/>
              <p:nvPr/>
            </p:nvSpPr>
            <p:spPr>
              <a:xfrm>
                <a:off x="5877000" y="3276720"/>
                <a:ext cx="1601640" cy="85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op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hy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5" name=""/>
              <p:cNvSpPr txBox="1"/>
              <p:nvPr/>
            </p:nvSpPr>
            <p:spPr>
              <a:xfrm>
                <a:off x="5886360" y="4156200"/>
                <a:ext cx="1422360" cy="79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6" name=""/>
              <p:cNvSpPr txBox="1"/>
              <p:nvPr/>
            </p:nvSpPr>
            <p:spPr>
              <a:xfrm>
                <a:off x="5978520" y="4917960"/>
                <a:ext cx="2836800" cy="87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7" name=""/>
          <p:cNvSpPr/>
          <p:nvPr/>
        </p:nvSpPr>
        <p:spPr>
          <a:xfrm>
            <a:off x="5800680" y="312408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5648400" y="2590920"/>
            <a:ext cx="259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5267160" y="2590920"/>
            <a:ext cx="259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rot="19396800">
            <a:off x="2747880" y="5509800"/>
            <a:ext cx="157320" cy="1429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4" dur="indefinite" restart="never" nodeType="tmRoot">
          <p:childTnLst>
            <p:seq>
              <p:cTn id="915" dur="indefinite" nodeType="mainSeq">
                <p:childTnLst>
                  <p:par>
                    <p:cTn id="916" fill="hold">
                      <p:stCondLst>
                        <p:cond delay="0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fill="hold">
                            <p:stCondLst>
                              <p:cond delay="2500"/>
                            </p:stCondLst>
                            <p:childTnLst>
                              <p:par>
                                <p:cTn id="923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5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1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2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7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8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0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6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area of the follow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4360" y="342900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= ½ b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179280" y="1341000"/>
            <a:ext cx="2519280" cy="1735560"/>
            <a:chOff x="179280" y="1341000"/>
            <a:chExt cx="2519280" cy="1735560"/>
          </a:xfrm>
        </p:grpSpPr>
        <p:sp>
          <p:nvSpPr>
            <p:cNvPr id="55" name=""/>
            <p:cNvSpPr/>
            <p:nvPr/>
          </p:nvSpPr>
          <p:spPr>
            <a:xfrm>
              <a:off x="755280" y="1341360"/>
              <a:ext cx="719280" cy="136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474560" y="2708280"/>
              <a:ext cx="122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 flipV="1">
              <a:off x="755280" y="1341000"/>
              <a:ext cx="1943280" cy="136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755280" y="2708280"/>
              <a:ext cx="719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V="1">
              <a:off x="755280" y="1341000"/>
              <a:ext cx="0" cy="136692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763280" y="2708280"/>
              <a:ext cx="7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c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79280" y="184464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c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618920" y="1622520"/>
              <a:ext cx="7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c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6012000" y="361944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quare - circl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012000" y="417024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 x b –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012000" y="467532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 x 9 –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x 4.5 x 4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12000" y="524988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= 81 – 63.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6443640" y="1413000"/>
            <a:ext cx="1800360" cy="2096640"/>
            <a:chOff x="6443640" y="1413000"/>
            <a:chExt cx="1800360" cy="2096640"/>
          </a:xfrm>
        </p:grpSpPr>
        <p:sp>
          <p:nvSpPr>
            <p:cNvPr id="68" name=""/>
            <p:cNvSpPr/>
            <p:nvPr/>
          </p:nvSpPr>
          <p:spPr>
            <a:xfrm>
              <a:off x="6444720" y="1413000"/>
              <a:ext cx="1798920" cy="172836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443640" y="1413000"/>
              <a:ext cx="1800360" cy="1728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067520" y="3141360"/>
              <a:ext cx="1107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9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6012000" y="582624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= 17.4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392580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= ½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7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4360" y="443088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= 21 c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3132000" y="907920"/>
            <a:ext cx="3240360" cy="2312640"/>
            <a:chOff x="3132000" y="907920"/>
            <a:chExt cx="3240360" cy="2312640"/>
          </a:xfrm>
        </p:grpSpPr>
        <p:sp>
          <p:nvSpPr>
            <p:cNvPr id="75" name=""/>
            <p:cNvSpPr/>
            <p:nvPr/>
          </p:nvSpPr>
          <p:spPr>
            <a:xfrm>
              <a:off x="3997440" y="907920"/>
              <a:ext cx="107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7c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141800" y="2852280"/>
              <a:ext cx="107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3c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32000" y="1339560"/>
              <a:ext cx="2521080" cy="1512720"/>
            </a:xfrm>
            <a:custGeom>
              <a:avLst/>
              <a:gdLst>
                <a:gd name="textAreaLeft" fmla="*/ 682920 w 2521080"/>
                <a:gd name="textAreaRight" fmla="*/ 1838160 w 2521080"/>
                <a:gd name="textAreaTop" fmla="*/ 409680 h 1512720"/>
                <a:gd name="textAreaBottom" fmla="*/ 1103040 h 15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4214" y="21600"/>
                  </a:lnTo>
                  <a:lnTo>
                    <a:pt x="7386" y="21600"/>
                  </a:lnTo>
                  <a:close/>
                </a:path>
              </a:pathLst>
            </a:cu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292720" y="1915920"/>
              <a:ext cx="107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8c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V="1">
              <a:off x="4140360" y="1339560"/>
              <a:ext cx="0" cy="151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140360" y="1844280"/>
              <a:ext cx="107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6c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3130560" y="3716280"/>
            <a:ext cx="273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½(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30560" y="426708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½(7 + 3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x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30560" y="477216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½ x 10 x 6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30560" y="534672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c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7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225000"/>
            <a:ext cx="7989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nd the missing angles a°, b°, c°… 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ere the bold lines are tan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270320" y="442116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c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6400800" y="25146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° = 9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400800" y="29718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° = 59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6400800" y="3429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° = 2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6" name=""/>
          <p:cNvGrpSpPr/>
          <p:nvPr/>
        </p:nvGrpSpPr>
        <p:grpSpPr>
          <a:xfrm>
            <a:off x="526320" y="2430360"/>
            <a:ext cx="4754160" cy="3287160"/>
            <a:chOff x="526320" y="2430360"/>
            <a:chExt cx="4754160" cy="3287160"/>
          </a:xfrm>
        </p:grpSpPr>
        <p:grpSp>
          <p:nvGrpSpPr>
            <p:cNvPr id="467" name=""/>
            <p:cNvGrpSpPr/>
            <p:nvPr/>
          </p:nvGrpSpPr>
          <p:grpSpPr>
            <a:xfrm>
              <a:off x="526320" y="2430360"/>
              <a:ext cx="4754160" cy="3287160"/>
              <a:chOff x="526320" y="2430360"/>
              <a:chExt cx="4754160" cy="3287160"/>
            </a:xfrm>
          </p:grpSpPr>
          <p:sp>
            <p:nvSpPr>
              <p:cNvPr id="468" name=""/>
              <p:cNvSpPr/>
              <p:nvPr/>
            </p:nvSpPr>
            <p:spPr>
              <a:xfrm rot="20638800">
                <a:off x="866880" y="2979360"/>
                <a:ext cx="2514600" cy="2438280"/>
              </a:xfrm>
              <a:prstGeom prst="ellipse">
                <a:avLst/>
              </a:prstGeom>
              <a:solidFill>
                <a:srgbClr val="cce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 flipV="1">
                <a:off x="1252440" y="4561200"/>
                <a:ext cx="4028040" cy="1156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H="1" flipV="1">
                <a:off x="2090880" y="4221360"/>
                <a:ext cx="333000" cy="1159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 rot="20638800">
                <a:off x="2014560" y="414360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 flipV="1">
                <a:off x="1252440" y="4208760"/>
                <a:ext cx="835200" cy="1508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2087640" y="4209120"/>
                <a:ext cx="3192840" cy="352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531000" y="2430360"/>
                <a:ext cx="1263960" cy="1948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 flipH="1" flipV="1">
                <a:off x="1076400" y="3541320"/>
                <a:ext cx="1010880" cy="667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 flipH="1">
                <a:off x="526320" y="4215240"/>
                <a:ext cx="1563120" cy="171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7" name=""/>
            <p:cNvSpPr/>
            <p:nvPr/>
          </p:nvSpPr>
          <p:spPr>
            <a:xfrm>
              <a:off x="1373040" y="3921120"/>
              <a:ext cx="53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31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171880" y="4248000"/>
              <a:ext cx="533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70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1773360" y="4546440"/>
              <a:ext cx="533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40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0" name=""/>
          <p:cNvSpPr/>
          <p:nvPr/>
        </p:nvSpPr>
        <p:spPr>
          <a:xfrm>
            <a:off x="1406520" y="526248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d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988920" y="356868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a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644400" y="402120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b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6396120" y="39481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° = 5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7" dur="indefinite" restart="never" nodeType="tmRoot">
          <p:childTnLst>
            <p:seq>
              <p:cTn id="988" dur="indefinite" nodeType="mainSeq">
                <p:childTnLst>
                  <p:par>
                    <p:cTn id="989" fill="hold">
                      <p:stCondLst>
                        <p:cond delay="0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4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5" fill="hold">
                            <p:stCondLst>
                              <p:cond delay="2500"/>
                            </p:stCondLst>
                            <p:childTnLst>
                              <p:par>
                                <p:cTn id="99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0" fill="hold">
                            <p:stCondLst>
                              <p:cond delay="4000"/>
                            </p:stCondLst>
                            <p:childTnLst>
                              <p:par>
                                <p:cTn id="100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3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5" fill="hold">
                            <p:stCondLst>
                              <p:cond delay="5500"/>
                            </p:stCondLst>
                            <p:childTnLst>
                              <p:par>
                                <p:cTn id="100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fill="hold">
                            <p:stCondLst>
                              <p:cond delay="7000"/>
                            </p:stCondLst>
                            <p:childTnLst>
                              <p:par>
                                <p:cTn id="101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3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4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9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0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5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6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1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2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7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8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nd the missing radius, 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1676520" y="281952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y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5715000" y="21067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OH CAH T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7" name=""/>
              <p:cNvSpPr txBox="1"/>
              <p:nvPr/>
            </p:nvSpPr>
            <p:spPr>
              <a:xfrm>
                <a:off x="5854680" y="2639880"/>
                <a:ext cx="162864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an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op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dj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8" name=""/>
              <p:cNvSpPr txBox="1"/>
              <p:nvPr/>
            </p:nvSpPr>
            <p:spPr>
              <a:xfrm>
                <a:off x="5867280" y="3492360"/>
                <a:ext cx="1602000" cy="79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an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9" name=""/>
              <p:cNvSpPr txBox="1"/>
              <p:nvPr/>
            </p:nvSpPr>
            <p:spPr>
              <a:xfrm>
                <a:off x="5862600" y="4316400"/>
                <a:ext cx="190980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tan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0" name=""/>
              <p:cNvSpPr txBox="1"/>
              <p:nvPr/>
            </p:nvSpPr>
            <p:spPr>
              <a:xfrm>
                <a:off x="6151680" y="4854600"/>
                <a:ext cx="118404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1" name=""/>
          <p:cNvSpPr/>
          <p:nvPr/>
        </p:nvSpPr>
        <p:spPr>
          <a:xfrm>
            <a:off x="7162920" y="248760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5638680" y="1981080"/>
            <a:ext cx="259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5791320" y="1981080"/>
            <a:ext cx="259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3124080" y="16002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d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5" name=""/>
          <p:cNvGrpSpPr/>
          <p:nvPr/>
        </p:nvGrpSpPr>
        <p:grpSpPr>
          <a:xfrm>
            <a:off x="1225440" y="1798920"/>
            <a:ext cx="3853800" cy="4098240"/>
            <a:chOff x="1225440" y="1798920"/>
            <a:chExt cx="3853800" cy="4098240"/>
          </a:xfrm>
        </p:grpSpPr>
        <p:grpSp>
          <p:nvGrpSpPr>
            <p:cNvPr id="496" name=""/>
            <p:cNvGrpSpPr/>
            <p:nvPr/>
          </p:nvGrpSpPr>
          <p:grpSpPr>
            <a:xfrm>
              <a:off x="1225440" y="1798920"/>
              <a:ext cx="3853800" cy="4098240"/>
              <a:chOff x="1225440" y="1798920"/>
              <a:chExt cx="3853800" cy="4098240"/>
            </a:xfrm>
          </p:grpSpPr>
          <p:sp>
            <p:nvSpPr>
              <p:cNvPr id="497" name=""/>
              <p:cNvSpPr/>
              <p:nvPr/>
            </p:nvSpPr>
            <p:spPr>
              <a:xfrm rot="12187200">
                <a:off x="1922760" y="2798640"/>
                <a:ext cx="2742840" cy="26668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 flipH="1" flipV="1">
                <a:off x="1225440" y="1798920"/>
                <a:ext cx="3433680" cy="1465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 flipH="1">
                <a:off x="3279240" y="2906640"/>
                <a:ext cx="538560" cy="1261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 rot="12187200">
                <a:off x="3233160" y="4021200"/>
                <a:ext cx="152280" cy="151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1225440" y="1799640"/>
                <a:ext cx="2084400" cy="2297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 flipH="1" flipV="1">
                <a:off x="1225440" y="1798920"/>
                <a:ext cx="2592720" cy="1107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3" name=""/>
            <p:cNvSpPr/>
            <p:nvPr/>
          </p:nvSpPr>
          <p:spPr>
            <a:xfrm>
              <a:off x="1752480" y="213372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26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581280" y="33526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590920" y="18288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13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6" name=""/>
          <p:cNvSpPr/>
          <p:nvPr/>
        </p:nvSpPr>
        <p:spPr>
          <a:xfrm rot="17664600">
            <a:off x="3534840" y="2865240"/>
            <a:ext cx="2286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809880" y="33526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9" dur="indefinite" restart="never" nodeType="tmRoot">
          <p:childTnLst>
            <p:seq>
              <p:cTn id="1040" dur="indefinite" nodeType="mainSeq">
                <p:childTnLst>
                  <p:par>
                    <p:cTn id="1041" fill="hold">
                      <p:stCondLst>
                        <p:cond delay="0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6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1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2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8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3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4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9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0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1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2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7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8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s and Graph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two function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(x) = 3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1 and g(x) = 4 -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395280" y="112536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alu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539640" y="177336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(1)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39640" y="321300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(3)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39640" y="472428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(-4)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539640" y="608652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(a)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4643280" y="177336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(3)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4643280" y="321300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(9)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4643280" y="468792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(-1)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4643280" y="609300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(y)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1619280" y="170028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3(1)</a:t>
            </a:r>
            <a:r>
              <a:rPr b="0" lang="en-US" sz="24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– 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619280" y="210672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3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1 – 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1835280" y="2538360"/>
            <a:ext cx="64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1619280" y="321480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3(3)</a:t>
            </a:r>
            <a:r>
              <a:rPr b="0" lang="en-US" sz="24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– 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1619280" y="362124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3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9 – 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1835280" y="4052880"/>
            <a:ext cx="64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1547640" y="465300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3(-4)</a:t>
            </a:r>
            <a:r>
              <a:rPr b="0" lang="en-US" sz="24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– 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1547640" y="505944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3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16 – 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1763640" y="5491080"/>
            <a:ext cx="6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1547640" y="606744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3a</a:t>
            </a:r>
            <a:r>
              <a:rPr b="0" lang="en-US" sz="24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– 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5580000" y="170028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4 – 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5580000" y="220500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5651640" y="314172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4 – 9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5651640" y="364644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-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5580000" y="462744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4 – – 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5580000" y="513252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5580000" y="606744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4 –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9" dur="indefinite" restart="never" nodeType="tmRoot">
          <p:childTnLst>
            <p:seq>
              <p:cTn id="1120" dur="indefinite" nodeType="mainSeq">
                <p:childTnLst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5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6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fill="hold">
                      <p:stCondLst>
                        <p:cond delay="indefinite"/>
                      </p:stCondLst>
                      <p:childTnLst>
                        <p:par>
                          <p:cTn id="1129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2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4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8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0" dur="8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8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8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149" dur="2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154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9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0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3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fill="hold">
                      <p:stCondLst>
                        <p:cond delay="indefinite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68" dur="2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3" dur="1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4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5" dur="9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1" dur="15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15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87" dur="2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" fill="hold">
                      <p:stCondLst>
                        <p:cond delay="indefinite"/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2" dur="1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3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9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3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fill="hold">
                      <p:stCondLst>
                        <p:cond delay="indefinite"/>
                      </p:stCondLst>
                      <p:childTnLst>
                        <p:par>
                          <p:cTn id="1205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8" dur="1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9" dur="4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" dur="4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3" fill="hold">
                      <p:stCondLst>
                        <p:cond delay="indefinite"/>
                      </p:stCondLst>
                      <p:childTnLst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1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2" fill="hold">
                      <p:stCondLst>
                        <p:cond delay="indefinite"/>
                      </p:stCondLst>
                      <p:childTnLst>
                        <p:par>
                          <p:cTn id="1223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6" dur="2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7" fill="hold">
                      <p:stCondLst>
                        <p:cond delay="indefinite"/>
                      </p:stCondLst>
                      <p:childTnLst>
                        <p:par>
                          <p:cTn id="1228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1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2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3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4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5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6" fill="hold">
                      <p:stCondLst>
                        <p:cond delay="indefinite"/>
                      </p:stCondLst>
                      <p:childTnLst>
                        <p:par>
                          <p:cTn id="1237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0" dur="15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15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func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(x) = 2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3x + 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395280" y="1231920"/>
            <a:ext cx="583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aluate the range when x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-2, -1, 0 , 1, 2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755640" y="1989000"/>
            <a:ext cx="37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f(-2) = 2(-2)</a:t>
            </a:r>
            <a:r>
              <a:rPr b="0" lang="en-US" sz="24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– 3(-2) + 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1403280" y="2421000"/>
            <a:ext cx="37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= 2(4) – 3(-2) + 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1403280" y="2827440"/>
            <a:ext cx="37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= 8 + 6 + 1 = </a:t>
            </a: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755640" y="3645000"/>
            <a:ext cx="37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f(-1) = 2(-1)</a:t>
            </a:r>
            <a:r>
              <a:rPr b="0" lang="en-US" sz="24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– 3(-1) + 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1403280" y="4076640"/>
            <a:ext cx="37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= 2(1) – 3(-1) + 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1403280" y="4483080"/>
            <a:ext cx="37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= 2 + 3 + 1 = </a:t>
            </a: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755640" y="5157720"/>
            <a:ext cx="37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f(0) = 2(0)</a:t>
            </a:r>
            <a:r>
              <a:rPr b="0" lang="en-US" sz="24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– 3(0) + 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1403280" y="5589720"/>
            <a:ext cx="37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= 0 – 0 + 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1403280" y="5996160"/>
            <a:ext cx="37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= </a:t>
            </a: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4643280" y="1989000"/>
            <a:ext cx="37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f(1) = 2(1)</a:t>
            </a:r>
            <a:r>
              <a:rPr b="0" lang="en-US" sz="24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– 3(1) + 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5291280" y="2421000"/>
            <a:ext cx="37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= 2(1) – 3(1) + 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291280" y="2827440"/>
            <a:ext cx="37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= 2 – 3 + 1 = </a:t>
            </a: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4643280" y="3573360"/>
            <a:ext cx="37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f(2) = 2(2)</a:t>
            </a:r>
            <a:r>
              <a:rPr b="0" lang="en-US" sz="24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– 3(2) + 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291280" y="4005360"/>
            <a:ext cx="37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= 2(4) – 3(2) + 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5291280" y="4411800"/>
            <a:ext cx="37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= 8 – 6 + 1 = </a:t>
            </a: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932360" y="5419800"/>
            <a:ext cx="37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nge {0,1,6,15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2" dur="indefinite" restart="never" nodeType="tmRoot">
          <p:childTnLst>
            <p:seq>
              <p:cTn id="1243" dur="indefinite" nodeType="mainSeq">
                <p:childTnLst>
                  <p:par>
                    <p:cTn id="1244" fill="hold">
                      <p:stCondLst>
                        <p:cond delay="indefinite"/>
                      </p:stCondLst>
                      <p:childTnLst>
                        <p:par>
                          <p:cTn id="1245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8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9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0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1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2" fill="hold">
                      <p:stCondLst>
                        <p:cond delay="indefinite"/>
                      </p:stCondLst>
                      <p:childTnLst>
                        <p:par>
                          <p:cTn id="1253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6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7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8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9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0" fill="hold">
                      <p:stCondLst>
                        <p:cond delay="indefinite"/>
                      </p:stCondLst>
                      <p:childTnLst>
                        <p:par>
                          <p:cTn id="1261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4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5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6" dur="1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7" fill="hold">
                      <p:stCondLst>
                        <p:cond delay="indefinite"/>
                      </p:stCondLst>
                      <p:childTnLst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71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2" fill="hold">
                      <p:stCondLst>
                        <p:cond delay="indefinite"/>
                      </p:stCondLst>
                      <p:childTnLst>
                        <p:par>
                          <p:cTn id="1273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8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8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0" fill="hold">
                      <p:stCondLst>
                        <p:cond delay="indefinite"/>
                      </p:stCondLst>
                      <p:childTnLst>
                        <p:par>
                          <p:cTn id="1291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4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5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6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7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8" fill="hold">
                      <p:stCondLst>
                        <p:cond delay="indefinite"/>
                      </p:stCondLst>
                      <p:childTnLst>
                        <p:par>
                          <p:cTn id="1299" fill="hold">
                            <p:stCondLst>
                              <p:cond delay="0"/>
                            </p:stCondLst>
                            <p:childTnLst>
                              <p:par>
                                <p:cTn id="13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2" dur="77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03" dur="770" fill="hold"/>
                                        <p:tgtEl>
                                          <p:spTgt spid="54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05" dur="77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07" dur="77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9" fill="hold">
                      <p:stCondLst>
                        <p:cond delay="indefinite"/>
                      </p:stCondLst>
                      <p:childTnLst>
                        <p:par>
                          <p:cTn id="1310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13" dur="2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4" fill="hold">
                      <p:stCondLst>
                        <p:cond delay="indefinite"/>
                      </p:stCondLst>
                      <p:childTnLst>
                        <p:par>
                          <p:cTn id="1315" fill="hold">
                            <p:stCondLst>
                              <p:cond delay="0"/>
                            </p:stCondLst>
                            <p:childTnLst>
                              <p:par>
                                <p:cTn id="13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8" dur="2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9" dur="2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0" dur="2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1" fill="hold">
                      <p:stCondLst>
                        <p:cond delay="indefinite"/>
                      </p:stCondLst>
                      <p:childTnLst>
                        <p:par>
                          <p:cTn id="1322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5" dur="5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6" dur="5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7" fill="hold">
                      <p:stCondLst>
                        <p:cond delay="indefinite"/>
                      </p:stCondLst>
                      <p:childTnLst>
                        <p:par>
                          <p:cTn id="1328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1" fill="hold">
                      <p:stCondLst>
                        <p:cond delay="indefinite"/>
                      </p:stCondLst>
                      <p:childTnLst>
                        <p:par>
                          <p:cTn id="1332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5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6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7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8" dur="1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9" fill="hold">
                      <p:stCondLst>
                        <p:cond delay="indefinite"/>
                      </p:stCondLst>
                      <p:childTnLst>
                        <p:par>
                          <p:cTn id="1340" fill="hold">
                            <p:stCondLst>
                              <p:cond delay="0"/>
                            </p:stCondLst>
                            <p:childTnLst>
                              <p:par>
                                <p:cTn id="13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3" dur="2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4" dur="2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5" dur="2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6" fill="hold">
                      <p:stCondLst>
                        <p:cond delay="indefinite"/>
                      </p:stCondLst>
                      <p:childTnLst>
                        <p:par>
                          <p:cTn id="1347" fill="hold">
                            <p:stCondLst>
                              <p:cond delay="0"/>
                            </p:stCondLst>
                            <p:childTnLst>
                              <p:par>
                                <p:cTn id="13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0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1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2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3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4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9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0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1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2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two function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(x) = 4 - x  and g(x) = 3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1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95280" y="1125360"/>
            <a:ext cx="32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x wh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539640" y="177336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(x) =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39640" y="411156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(x) = 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4284720" y="170028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(x) =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4356000" y="404028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(x) = 7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1908000" y="170028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4 – x = 7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1908000" y="210672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x = 4 – 7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2124000" y="253836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x = 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1908000" y="407664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4 – x = -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1908000" y="448308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x = 4 + 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124000" y="491508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x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5867280" y="1700280"/>
            <a:ext cx="20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3x</a:t>
            </a:r>
            <a:r>
              <a:rPr b="0" lang="en-US" sz="24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– 1 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5867280" y="2108160"/>
            <a:ext cx="20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3x</a:t>
            </a:r>
            <a:r>
              <a:rPr b="0" lang="en-US" sz="24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=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5867280" y="2492280"/>
            <a:ext cx="20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x</a:t>
            </a:r>
            <a:r>
              <a:rPr b="0" lang="en-US" sz="24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5867280" y="2900520"/>
            <a:ext cx="20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x</a:t>
            </a:r>
            <a:r>
              <a:rPr b="0" lang="en-US" sz="24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= ±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5867280" y="4003560"/>
            <a:ext cx="20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3x</a:t>
            </a:r>
            <a:r>
              <a:rPr b="0" lang="en-US" sz="24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– 1 = 7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5867280" y="4411800"/>
            <a:ext cx="20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3x</a:t>
            </a:r>
            <a:r>
              <a:rPr b="0" lang="en-US" sz="24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= 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5867280" y="4795920"/>
            <a:ext cx="20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x</a:t>
            </a:r>
            <a:r>
              <a:rPr b="0" lang="en-US" sz="24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= 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5867280" y="5203800"/>
            <a:ext cx="20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x</a:t>
            </a:r>
            <a:r>
              <a:rPr b="0" lang="en-US" sz="24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= ±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3" dur="indefinite" restart="never" nodeType="tmRoot">
          <p:childTnLst>
            <p:seq>
              <p:cTn id="1364" dur="indefinite" nodeType="mainSeq">
                <p:childTnLst>
                  <p:par>
                    <p:cTn id="1365" fill="hold">
                      <p:stCondLst>
                        <p:cond delay="indefinite"/>
                      </p:stCondLst>
                      <p:childTnLst>
                        <p:par>
                          <p:cTn id="1366" fill="hold">
                            <p:stCondLst>
                              <p:cond delay="0"/>
                            </p:stCondLst>
                            <p:childTnLst>
                              <p:par>
                                <p:cTn id="13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9" dur="1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0" dur="4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1" dur="4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4" fill="hold">
                      <p:stCondLst>
                        <p:cond delay="indefinite"/>
                      </p:stCondLst>
                      <p:childTnLst>
                        <p:par>
                          <p:cTn id="1375" fill="hold">
                            <p:stCondLst>
                              <p:cond delay="0"/>
                            </p:stCondLst>
                            <p:childTnLst>
                              <p:par>
                                <p:cTn id="13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8" dur="1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9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0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1" fill="hold">
                      <p:stCondLst>
                        <p:cond delay="indefinite"/>
                      </p:stCondLst>
                      <p:childTnLst>
                        <p:par>
                          <p:cTn id="1382" fill="hold">
                            <p:stCondLst>
                              <p:cond delay="0"/>
                            </p:stCondLst>
                            <p:childTnLst>
                              <p:par>
                                <p:cTn id="13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5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6" fill="hold">
                      <p:stCondLst>
                        <p:cond delay="indefinite"/>
                      </p:stCondLst>
                      <p:childTnLst>
                        <p:par>
                          <p:cTn id="1387" fill="hold">
                            <p:stCondLst>
                              <p:cond delay="0"/>
                            </p:stCondLst>
                            <p:childTnLst>
                              <p:par>
                                <p:cTn id="13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0" dur="5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1" dur="5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2" fill="hold">
                      <p:stCondLst>
                        <p:cond delay="indefinite"/>
                      </p:stCondLst>
                      <p:childTnLst>
                        <p:par>
                          <p:cTn id="1393" fill="hold">
                            <p:stCondLst>
                              <p:cond delay="0"/>
                            </p:stCondLst>
                            <p:childTnLst>
                              <p:par>
                                <p:cTn id="13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0" fill="hold">
                      <p:stCondLst>
                        <p:cond delay="indefinite"/>
                      </p:stCondLst>
                      <p:childTnLst>
                        <p:par>
                          <p:cTn id="1411" fill="hold">
                            <p:stCondLst>
                              <p:cond delay="0"/>
                            </p:stCondLst>
                            <p:childTnLst>
                              <p:par>
                                <p:cTn id="14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4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5" fill="hold">
                      <p:stCondLst>
                        <p:cond delay="indefinite"/>
                      </p:stCondLst>
                      <p:childTnLst>
                        <p:par>
                          <p:cTn id="1416" fill="hold">
                            <p:stCondLst>
                              <p:cond delay="0"/>
                            </p:stCondLst>
                            <p:childTnLst>
                              <p:par>
                                <p:cTn id="14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9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0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1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2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3" fill="hold">
                      <p:stCondLst>
                        <p:cond delay="indefinite"/>
                      </p:stCondLst>
                      <p:childTnLst>
                        <p:par>
                          <p:cTn id="1424" fill="hold">
                            <p:stCondLst>
                              <p:cond delay="0"/>
                            </p:stCondLst>
                            <p:childTnLst>
                              <p:par>
                                <p:cTn id="14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427" dur="2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8" fill="hold">
                      <p:stCondLst>
                        <p:cond delay="indefinite"/>
                      </p:stCondLst>
                      <p:childTnLst>
                        <p:par>
                          <p:cTn id="1429" fill="hold">
                            <p:stCondLst>
                              <p:cond delay="0"/>
                            </p:stCondLst>
                            <p:childTnLst>
                              <p:par>
                                <p:cTn id="14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32" dur="2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3" fill="hold">
                      <p:stCondLst>
                        <p:cond delay="indefinite"/>
                      </p:stCondLst>
                      <p:childTnLst>
                        <p:par>
                          <p:cTn id="1434" fill="hold">
                            <p:stCondLst>
                              <p:cond delay="0"/>
                            </p:stCondLst>
                            <p:childTnLst>
                              <p:par>
                                <p:cTn id="14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8" fill="hold">
                      <p:stCondLst>
                        <p:cond delay="indefinite"/>
                      </p:stCondLst>
                      <p:childTnLst>
                        <p:par>
                          <p:cTn id="1439" fill="hold">
                            <p:stCondLst>
                              <p:cond delay="0"/>
                            </p:stCondLst>
                            <p:childTnLst>
                              <p:par>
                                <p:cTn id="14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2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3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4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5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6" fill="hold">
                      <p:stCondLst>
                        <p:cond delay="indefinite"/>
                      </p:stCondLst>
                      <p:childTnLst>
                        <p:par>
                          <p:cTn id="1447" fill="hold">
                            <p:stCondLst>
                              <p:cond delay="0"/>
                            </p:stCondLst>
                            <p:childTnLst>
                              <p:par>
                                <p:cTn id="14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0" dur="2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1" fill="hold">
                      <p:stCondLst>
                        <p:cond delay="indefinite"/>
                      </p:stCondLst>
                      <p:childTnLst>
                        <p:par>
                          <p:cTn id="1452" fill="hold">
                            <p:stCondLst>
                              <p:cond delay="0"/>
                            </p:stCondLst>
                            <p:childTnLst>
                              <p:par>
                                <p:cTn id="14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5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6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57" dur="10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8" fill="hold">
                      <p:stCondLst>
                        <p:cond delay="indefinite"/>
                      </p:stCondLst>
                      <p:childTnLst>
                        <p:par>
                          <p:cTn id="1459" fill="hold">
                            <p:stCondLst>
                              <p:cond delay="0"/>
                            </p:stCondLst>
                            <p:childTnLst>
                              <p:par>
                                <p:cTn id="14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2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-10044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 = ax + b,   y =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  y = a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b,   y = a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322200" y="1052640"/>
            <a:ext cx="712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the equation of the following graphs given the general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2538360" y="1989000"/>
            <a:ext cx="10256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,1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366840" y="2220840"/>
            <a:ext cx="139680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= ax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2373480" y="1557360"/>
            <a:ext cx="57600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0" name=""/>
          <p:cNvGrpSpPr/>
          <p:nvPr/>
        </p:nvGrpSpPr>
        <p:grpSpPr>
          <a:xfrm>
            <a:off x="468360" y="1628640"/>
            <a:ext cx="3816360" cy="2448000"/>
            <a:chOff x="468360" y="1628640"/>
            <a:chExt cx="3816360" cy="2448000"/>
          </a:xfrm>
        </p:grpSpPr>
        <p:sp>
          <p:nvSpPr>
            <p:cNvPr id="581" name=""/>
            <p:cNvSpPr/>
            <p:nvPr/>
          </p:nvSpPr>
          <p:spPr>
            <a:xfrm flipV="1">
              <a:off x="1835280" y="1844640"/>
              <a:ext cx="0" cy="22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68360" y="3141720"/>
              <a:ext cx="295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3259080" y="3068640"/>
              <a:ext cx="1025640" cy="38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403280" y="1628640"/>
              <a:ext cx="10256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5" name=""/>
          <p:cNvSpPr/>
          <p:nvPr/>
        </p:nvSpPr>
        <p:spPr>
          <a:xfrm>
            <a:off x="971640" y="1844640"/>
            <a:ext cx="1728720" cy="1297080"/>
          </a:xfrm>
          <a:custGeom>
            <a:avLst/>
            <a:gdLst/>
            <a:ahLst/>
            <a:rect l="l" t="t" r="r" b="b"/>
            <a:pathLst>
              <a:path w="1361" h="817">
                <a:moveTo>
                  <a:pt x="0" y="0"/>
                </a:moveTo>
                <a:cubicBezTo>
                  <a:pt x="226" y="408"/>
                  <a:pt x="453" y="817"/>
                  <a:pt x="680" y="817"/>
                </a:cubicBezTo>
                <a:cubicBezTo>
                  <a:pt x="907" y="817"/>
                  <a:pt x="1134" y="408"/>
                  <a:pt x="136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H="1" flipV="1">
            <a:off x="6802560" y="1844280"/>
            <a:ext cx="144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5435640" y="3141720"/>
            <a:ext cx="2951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8226360" y="3068640"/>
            <a:ext cx="102564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6370560" y="1628640"/>
            <a:ext cx="10256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324000" y="4653000"/>
            <a:ext cx="28810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 (2,12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7596360" y="2276640"/>
            <a:ext cx="1025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8,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7596360" y="1628640"/>
            <a:ext cx="57600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1476360" y="4149720"/>
            <a:ext cx="139716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= ax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1829880" y="4653000"/>
            <a:ext cx="13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 = a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1965600" y="5013360"/>
            <a:ext cx="94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a = 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2082240" y="5367240"/>
            <a:ext cx="75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= 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1721520" y="5924520"/>
            <a:ext cx="11880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 = 3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 flipV="1">
            <a:off x="5867280" y="2205000"/>
            <a:ext cx="201636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6516720" y="2492280"/>
            <a:ext cx="102564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5364000" y="2133720"/>
            <a:ext cx="139716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= ax +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6012000" y="3660840"/>
            <a:ext cx="139680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= ax +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4930920" y="4149720"/>
            <a:ext cx="28810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 (0,5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6370560" y="4149720"/>
            <a:ext cx="20890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 = x +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372360" y="4510080"/>
            <a:ext cx="15145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 =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227640" y="4870440"/>
            <a:ext cx="139716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= ax +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4932360" y="5302080"/>
            <a:ext cx="28814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 (8,7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6343560" y="5318280"/>
            <a:ext cx="1397160" cy="3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 = 8a +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6415200" y="5676840"/>
            <a:ext cx="1396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= 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5862960" y="6165720"/>
            <a:ext cx="1721520" cy="510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 =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+ 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3" dur="indefinite" restart="never" nodeType="tmRoot">
          <p:childTnLst>
            <p:seq>
              <p:cTn id="1464" dur="indefinite" nodeType="mainSeq">
                <p:childTnLst>
                  <p:par>
                    <p:cTn id="1465" fill="hold">
                      <p:stCondLst>
                        <p:cond delay="indefinite"/>
                      </p:stCondLst>
                      <p:childTnLst>
                        <p:par>
                          <p:cTn id="1466" fill="hold">
                            <p:stCondLst>
                              <p:cond delay="0"/>
                            </p:stCondLst>
                            <p:childTnLst>
                              <p:par>
                                <p:cTn id="14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469" dur="2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0" fill="hold">
                      <p:stCondLst>
                        <p:cond delay="indefinite"/>
                      </p:stCondLst>
                      <p:childTnLst>
                        <p:par>
                          <p:cTn id="1471" fill="hold">
                            <p:stCondLst>
                              <p:cond delay="0"/>
                            </p:stCondLst>
                            <p:childTnLst>
                              <p:par>
                                <p:cTn id="14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74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5" fill="hold">
                      <p:stCondLst>
                        <p:cond delay="indefinite"/>
                      </p:stCondLst>
                      <p:childTnLst>
                        <p:par>
                          <p:cTn id="1476" fill="hold">
                            <p:stCondLst>
                              <p:cond delay="0"/>
                            </p:stCondLst>
                            <p:childTnLst>
                              <p:par>
                                <p:cTn id="14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9" dur="1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0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1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2" fill="hold">
                      <p:stCondLst>
                        <p:cond delay="indefinite"/>
                      </p:stCondLst>
                      <p:childTnLst>
                        <p:par>
                          <p:cTn id="1483" fill="hold">
                            <p:stCondLst>
                              <p:cond delay="0"/>
                            </p:stCondLst>
                            <p:childTnLst>
                              <p:par>
                                <p:cTn id="14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6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7" fill="hold">
                      <p:stCondLst>
                        <p:cond delay="indefinite"/>
                      </p:stCondLst>
                      <p:childTnLst>
                        <p:par>
                          <p:cTn id="1488" fill="hold">
                            <p:stCondLst>
                              <p:cond delay="0"/>
                            </p:stCondLst>
                            <p:childTnLst>
                              <p:par>
                                <p:cTn id="14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1" dur="2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2" dur="2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3" dur="2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4" dur="2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5" fill="hold">
                      <p:stCondLst>
                        <p:cond delay="indefinite"/>
                      </p:stCondLst>
                      <p:childTnLst>
                        <p:par>
                          <p:cTn id="1496" fill="hold">
                            <p:stCondLst>
                              <p:cond delay="0"/>
                            </p:stCondLst>
                            <p:childTnLst>
                              <p:par>
                                <p:cTn id="14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9" dur="2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0" fill="hold">
                      <p:stCondLst>
                        <p:cond delay="indefinite"/>
                      </p:stCondLst>
                      <p:childTnLst>
                        <p:par>
                          <p:cTn id="1501" fill="hold">
                            <p:stCondLst>
                              <p:cond delay="0"/>
                            </p:stCondLst>
                            <p:childTnLst>
                              <p:par>
                                <p:cTn id="15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4" dur="2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5" dur="2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6" dur="2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7" fill="hold">
                      <p:stCondLst>
                        <p:cond delay="indefinite"/>
                      </p:stCondLst>
                      <p:childTnLst>
                        <p:par>
                          <p:cTn id="1508" fill="hold">
                            <p:stCondLst>
                              <p:cond delay="0"/>
                            </p:stCondLst>
                            <p:childTnLst>
                              <p:par>
                                <p:cTn id="15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1" dur="1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2" dur="4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3" dur="4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6" fill="hold">
                      <p:stCondLst>
                        <p:cond delay="indefinite"/>
                      </p:stCondLst>
                      <p:childTnLst>
                        <p:par>
                          <p:cTn id="1517" fill="hold">
                            <p:stCondLst>
                              <p:cond delay="0"/>
                            </p:stCondLst>
                            <p:childTnLst>
                              <p:par>
                                <p:cTn id="15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0" dur="1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1" dur="4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2" dur="4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5" fill="hold">
                      <p:stCondLst>
                        <p:cond delay="indefinite"/>
                      </p:stCondLst>
                      <p:childTnLst>
                        <p:par>
                          <p:cTn id="1526" fill="hold">
                            <p:stCondLst>
                              <p:cond delay="0"/>
                            </p:stCondLst>
                            <p:childTnLst>
                              <p:par>
                                <p:cTn id="15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9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0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1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2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3" fill="hold">
                      <p:stCondLst>
                        <p:cond delay="indefinite"/>
                      </p:stCondLst>
                      <p:childTnLst>
                        <p:par>
                          <p:cTn id="1534" fill="hold">
                            <p:stCondLst>
                              <p:cond delay="0"/>
                            </p:stCondLst>
                            <p:childTnLst>
                              <p:par>
                                <p:cTn id="15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7" dur="2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8" dur="2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9" dur="2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0" fill="hold">
                      <p:stCondLst>
                        <p:cond delay="indefinite"/>
                      </p:stCondLst>
                      <p:childTnLst>
                        <p:par>
                          <p:cTn id="1541" fill="hold">
                            <p:stCondLst>
                              <p:cond delay="0"/>
                            </p:stCondLst>
                            <p:childTnLst>
                              <p:par>
                                <p:cTn id="15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44" dur="80"/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45" dur="80"/>
                                        <p:tgtEl>
                                          <p:spTgt spid="6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6" dur="80"/>
                                        <p:tgtEl>
                                          <p:spTgt spid="6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7" fill="hold">
                      <p:stCondLst>
                        <p:cond delay="indefinite"/>
                      </p:stCondLst>
                      <p:childTnLst>
                        <p:par>
                          <p:cTn id="1548" fill="hold">
                            <p:stCondLst>
                              <p:cond delay="0"/>
                            </p:stCondLst>
                            <p:childTnLst>
                              <p:par>
                                <p:cTn id="15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55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6" fill="hold">
                      <p:stCondLst>
                        <p:cond delay="indefinite"/>
                      </p:stCondLst>
                      <p:childTnLst>
                        <p:par>
                          <p:cTn id="1557" fill="hold">
                            <p:stCondLst>
                              <p:cond delay="0"/>
                            </p:stCondLst>
                            <p:childTnLst>
                              <p:par>
                                <p:cTn id="15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0" dur="15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1" dur="15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2" fill="hold">
                      <p:stCondLst>
                        <p:cond delay="indefinite"/>
                      </p:stCondLst>
                      <p:childTnLst>
                        <p:par>
                          <p:cTn id="1563" fill="hold">
                            <p:stCondLst>
                              <p:cond delay="0"/>
                            </p:stCondLst>
                            <p:childTnLst>
                              <p:par>
                                <p:cTn id="15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68" dur="1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9" fill="hold">
                      <p:stCondLst>
                        <p:cond delay="indefinite"/>
                      </p:stCondLst>
                      <p:childTnLst>
                        <p:par>
                          <p:cTn id="1570" fill="hold">
                            <p:stCondLst>
                              <p:cond delay="0"/>
                            </p:stCondLst>
                            <p:childTnLst>
                              <p:par>
                                <p:cTn id="15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3" dur="1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4" dur="4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5" dur="4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8" fill="hold">
                      <p:stCondLst>
                        <p:cond delay="indefinite"/>
                      </p:stCondLst>
                      <p:childTnLst>
                        <p:par>
                          <p:cTn id="1579" fill="hold">
                            <p:stCondLst>
                              <p:cond delay="0"/>
                            </p:stCondLst>
                            <p:childTnLst>
                              <p:par>
                                <p:cTn id="15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82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nd the equation of the grap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V="1">
            <a:off x="1978200" y="1844280"/>
            <a:ext cx="0" cy="280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322200" y="321300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266920" y="1916280"/>
            <a:ext cx="1297080" cy="1152360"/>
          </a:xfrm>
          <a:custGeom>
            <a:avLst/>
            <a:gdLst/>
            <a:ahLst/>
            <a:rect l="l" t="t" r="r" b="b"/>
            <a:pathLst>
              <a:path w="817" h="726">
                <a:moveTo>
                  <a:pt x="0" y="0"/>
                </a:moveTo>
                <a:cubicBezTo>
                  <a:pt x="0" y="234"/>
                  <a:pt x="0" y="469"/>
                  <a:pt x="136" y="590"/>
                </a:cubicBezTo>
                <a:cubicBezTo>
                  <a:pt x="272" y="711"/>
                  <a:pt x="544" y="718"/>
                  <a:pt x="817" y="72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 rot="10800000">
            <a:off x="466200" y="3355920"/>
            <a:ext cx="1297080" cy="1152720"/>
          </a:xfrm>
          <a:custGeom>
            <a:avLst/>
            <a:gdLst/>
            <a:ahLst/>
            <a:rect l="l" t="t" r="r" b="b"/>
            <a:pathLst>
              <a:path w="817" h="726">
                <a:moveTo>
                  <a:pt x="0" y="0"/>
                </a:moveTo>
                <a:cubicBezTo>
                  <a:pt x="0" y="234"/>
                  <a:pt x="0" y="469"/>
                  <a:pt x="136" y="590"/>
                </a:cubicBezTo>
                <a:cubicBezTo>
                  <a:pt x="272" y="711"/>
                  <a:pt x="544" y="718"/>
                  <a:pt x="817" y="72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1584360" y="3565440"/>
            <a:ext cx="57636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826920" y="4197240"/>
            <a:ext cx="102564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-2,-1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3618000" y="3213000"/>
            <a:ext cx="449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1546200" y="1628640"/>
            <a:ext cx="44928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9" name=""/>
              <p:cNvSpPr txBox="1"/>
              <p:nvPr/>
            </p:nvSpPr>
            <p:spPr>
              <a:xfrm>
                <a:off x="2484360" y="1773360"/>
                <a:ext cx="79236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0" name=""/>
              <p:cNvSpPr txBox="1"/>
              <p:nvPr/>
            </p:nvSpPr>
            <p:spPr>
              <a:xfrm>
                <a:off x="6588000" y="1557360"/>
                <a:ext cx="79236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1" name=""/>
              <p:cNvSpPr txBox="1"/>
              <p:nvPr/>
            </p:nvSpPr>
            <p:spPr>
              <a:xfrm>
                <a:off x="4427640" y="2598840"/>
                <a:ext cx="206856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ub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</m:d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2" name=""/>
              <p:cNvSpPr txBox="1"/>
              <p:nvPr/>
            </p:nvSpPr>
            <p:spPr>
              <a:xfrm>
                <a:off x="6699240" y="2421000"/>
                <a:ext cx="132876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3" name=""/>
              <p:cNvSpPr txBox="1"/>
              <p:nvPr/>
            </p:nvSpPr>
            <p:spPr>
              <a:xfrm>
                <a:off x="6562800" y="3500280"/>
                <a:ext cx="16095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×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4" name=""/>
              <p:cNvSpPr txBox="1"/>
              <p:nvPr/>
            </p:nvSpPr>
            <p:spPr>
              <a:xfrm>
                <a:off x="6588000" y="4295880"/>
                <a:ext cx="87012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5" name=""/>
              <p:cNvSpPr txBox="1"/>
              <p:nvPr/>
            </p:nvSpPr>
            <p:spPr>
              <a:xfrm>
                <a:off x="6588000" y="4869000"/>
                <a:ext cx="94644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3" dur="indefinite" restart="never" nodeType="tmRoot">
          <p:childTnLst>
            <p:seq>
              <p:cTn id="1584" dur="indefinite" nodeType="mainSeq">
                <p:childTnLst>
                  <p:par>
                    <p:cTn id="1585" fill="hold">
                      <p:stCondLst>
                        <p:cond delay="indefinite"/>
                      </p:stCondLst>
                      <p:childTnLst>
                        <p:par>
                          <p:cTn id="1586" fill="hold">
                            <p:stCondLst>
                              <p:cond delay="0"/>
                            </p:stCondLst>
                            <p:childTnLst>
                              <p:par>
                                <p:cTn id="15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9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0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1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2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3" fill="hold">
                      <p:stCondLst>
                        <p:cond delay="indefinite"/>
                      </p:stCondLst>
                      <p:childTnLst>
                        <p:par>
                          <p:cTn id="1594" fill="hold">
                            <p:stCondLst>
                              <p:cond delay="0"/>
                            </p:stCondLst>
                            <p:childTnLst>
                              <p:par>
                                <p:cTn id="15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7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8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9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0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1" fill="hold">
                      <p:stCondLst>
                        <p:cond delay="indefinite"/>
                      </p:stCondLst>
                      <p:childTnLst>
                        <p:par>
                          <p:cTn id="1602" fill="hold">
                            <p:stCondLst>
                              <p:cond delay="0"/>
                            </p:stCondLst>
                            <p:childTnLst>
                              <p:par>
                                <p:cTn id="16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5" dur="1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6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7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8" fill="hold">
                      <p:stCondLst>
                        <p:cond delay="indefinite"/>
                      </p:stCondLst>
                      <p:childTnLst>
                        <p:par>
                          <p:cTn id="1609" fill="hold">
                            <p:stCondLst>
                              <p:cond delay="0"/>
                            </p:stCondLst>
                            <p:childTnLst>
                              <p:par>
                                <p:cTn id="16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2" dur="1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3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4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5" fill="hold">
                      <p:stCondLst>
                        <p:cond delay="indefinite"/>
                      </p:stCondLst>
                      <p:childTnLst>
                        <p:par>
                          <p:cTn id="1616" fill="hold">
                            <p:stCondLst>
                              <p:cond delay="0"/>
                            </p:stCondLst>
                            <p:childTnLst>
                              <p:par>
                                <p:cTn id="16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9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0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1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2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3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4" fill="hold">
                      <p:stCondLst>
                        <p:cond delay="indefinite"/>
                      </p:stCondLst>
                      <p:childTnLst>
                        <p:par>
                          <p:cTn id="1625" fill="hold">
                            <p:stCondLst>
                              <p:cond delay="0"/>
                            </p:stCondLst>
                            <p:childTnLst>
                              <p:par>
                                <p:cTn id="16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8" dur="2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9" dur="2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0" dur="2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1" fill="hold">
                      <p:stCondLst>
                        <p:cond delay="indefinite"/>
                      </p:stCondLst>
                      <p:childTnLst>
                        <p:par>
                          <p:cTn id="1632" fill="hold">
                            <p:stCondLst>
                              <p:cond delay="0"/>
                            </p:stCondLst>
                            <p:childTnLst>
                              <p:par>
                                <p:cTn id="16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5" dur="1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6" dur="1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7" dur="1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8" dur="10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"/>
          <p:cNvGrpSpPr/>
          <p:nvPr/>
        </p:nvGrpSpPr>
        <p:grpSpPr>
          <a:xfrm>
            <a:off x="533520" y="838080"/>
            <a:ext cx="3657600" cy="2288520"/>
            <a:chOff x="533520" y="838080"/>
            <a:chExt cx="3657600" cy="2288520"/>
          </a:xfrm>
        </p:grpSpPr>
        <p:sp>
          <p:nvSpPr>
            <p:cNvPr id="86" name=""/>
            <p:cNvSpPr/>
            <p:nvPr/>
          </p:nvSpPr>
          <p:spPr>
            <a:xfrm>
              <a:off x="1219320" y="838080"/>
              <a:ext cx="2209680" cy="1828800"/>
            </a:xfrm>
            <a:prstGeom prst="parallelogram">
              <a:avLst>
                <a:gd name="adj" fmla="val 30207"/>
              </a:avLst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85800" y="26668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33520" y="228600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105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676520" y="2666880"/>
              <a:ext cx="99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7c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200400" y="160020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10c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4876920" y="914400"/>
            <a:ext cx="4038480" cy="1523520"/>
            <a:chOff x="4876920" y="914400"/>
            <a:chExt cx="4038480" cy="1523520"/>
          </a:xfrm>
        </p:grpSpPr>
        <p:grpSp>
          <p:nvGrpSpPr>
            <p:cNvPr id="92" name=""/>
            <p:cNvGrpSpPr/>
            <p:nvPr/>
          </p:nvGrpSpPr>
          <p:grpSpPr>
            <a:xfrm>
              <a:off x="4876920" y="990360"/>
              <a:ext cx="3124080" cy="1447560"/>
              <a:chOff x="4876920" y="990360"/>
              <a:chExt cx="3124080" cy="1447560"/>
            </a:xfrm>
          </p:grpSpPr>
          <p:sp>
            <p:nvSpPr>
              <p:cNvPr id="93" name=""/>
              <p:cNvSpPr/>
              <p:nvPr/>
            </p:nvSpPr>
            <p:spPr>
              <a:xfrm rot="16200000">
                <a:off x="5715000" y="151920"/>
                <a:ext cx="1447560" cy="3124080"/>
              </a:xfrm>
              <a:prstGeom prst="diamond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flipV="1">
                <a:off x="5715000" y="2057760"/>
                <a:ext cx="151920" cy="15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flipV="1">
                <a:off x="7086600" y="1219320"/>
                <a:ext cx="15192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5715000" y="1219680"/>
                <a:ext cx="15192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086600" y="2034000"/>
                <a:ext cx="151920" cy="15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 flipV="1">
              <a:off x="8153640" y="990360"/>
              <a:ext cx="0" cy="144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153640" y="152388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8c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876920" y="9144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12c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990720" y="838080"/>
            <a:ext cx="1371600" cy="1828800"/>
            <a:chOff x="990720" y="838080"/>
            <a:chExt cx="1371600" cy="1828800"/>
          </a:xfrm>
        </p:grpSpPr>
        <p:sp>
          <p:nvSpPr>
            <p:cNvPr id="102" name=""/>
            <p:cNvSpPr/>
            <p:nvPr/>
          </p:nvSpPr>
          <p:spPr>
            <a:xfrm>
              <a:off x="1752480" y="838080"/>
              <a:ext cx="0" cy="18288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600200" y="2514600"/>
              <a:ext cx="152280" cy="1522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752480" y="160020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990720" y="152388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914400" y="32004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= B ×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62120" y="36576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CAH T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38080" y="4191120"/>
            <a:ext cx="2590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in 75 = 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38080" y="47242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 = 10 sin 75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9.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914400" y="52578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= 7 ×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9.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914400" y="57913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= 67.6cm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800600" y="3200400"/>
            <a:ext cx="2666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= d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×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÷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4876920" y="990360"/>
            <a:ext cx="3124080" cy="1447920"/>
            <a:chOff x="4876920" y="990360"/>
            <a:chExt cx="3124080" cy="1447920"/>
          </a:xfrm>
        </p:grpSpPr>
        <p:grpSp>
          <p:nvGrpSpPr>
            <p:cNvPr id="114" name=""/>
            <p:cNvGrpSpPr/>
            <p:nvPr/>
          </p:nvGrpSpPr>
          <p:grpSpPr>
            <a:xfrm>
              <a:off x="4876920" y="990360"/>
              <a:ext cx="3124080" cy="1447920"/>
              <a:chOff x="4876920" y="990360"/>
              <a:chExt cx="3124080" cy="1447920"/>
            </a:xfrm>
          </p:grpSpPr>
          <p:grpSp>
            <p:nvGrpSpPr>
              <p:cNvPr id="115" name=""/>
              <p:cNvGrpSpPr/>
              <p:nvPr/>
            </p:nvGrpSpPr>
            <p:grpSpPr>
              <a:xfrm>
                <a:off x="4876920" y="990360"/>
                <a:ext cx="3124080" cy="1447920"/>
                <a:chOff x="4876920" y="990360"/>
                <a:chExt cx="3124080" cy="1447920"/>
              </a:xfrm>
            </p:grpSpPr>
            <p:sp>
              <p:nvSpPr>
                <p:cNvPr id="116" name=""/>
                <p:cNvSpPr/>
                <p:nvPr/>
              </p:nvSpPr>
              <p:spPr>
                <a:xfrm flipV="1">
                  <a:off x="4876920" y="990360"/>
                  <a:ext cx="0" cy="1447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4876920" y="990720"/>
                  <a:ext cx="3124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4876920" y="2438280"/>
                  <a:ext cx="3124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8001000" y="990720"/>
                  <a:ext cx="0" cy="1447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0" name=""/>
              <p:cNvSpPr/>
              <p:nvPr/>
            </p:nvSpPr>
            <p:spPr>
              <a:xfrm>
                <a:off x="4876920" y="1717560"/>
                <a:ext cx="1600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V="1">
                <a:off x="6442200" y="990360"/>
                <a:ext cx="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>
              <a:off x="5486400" y="1600200"/>
              <a:ext cx="91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4952880" y="38098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= 12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4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952880" y="434340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x  =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28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11.3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952880" y="495288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= 8 ×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22.6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÷ 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029200" y="55627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= 90.5cm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-171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area of the follow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"/>
          <p:cNvGrpSpPr/>
          <p:nvPr/>
        </p:nvGrpSpPr>
        <p:grpSpPr>
          <a:xfrm>
            <a:off x="609480" y="685800"/>
            <a:ext cx="7925040" cy="2971800"/>
            <a:chOff x="609480" y="685800"/>
            <a:chExt cx="7925040" cy="2971800"/>
          </a:xfrm>
        </p:grpSpPr>
        <p:grpSp>
          <p:nvGrpSpPr>
            <p:cNvPr id="129" name=""/>
            <p:cNvGrpSpPr/>
            <p:nvPr/>
          </p:nvGrpSpPr>
          <p:grpSpPr>
            <a:xfrm>
              <a:off x="609480" y="1447920"/>
              <a:ext cx="1828800" cy="2209320"/>
              <a:chOff x="609480" y="1447920"/>
              <a:chExt cx="1828800" cy="2209320"/>
            </a:xfrm>
          </p:grpSpPr>
          <p:sp>
            <p:nvSpPr>
              <p:cNvPr id="130" name=""/>
              <p:cNvSpPr/>
              <p:nvPr/>
            </p:nvSpPr>
            <p:spPr>
              <a:xfrm>
                <a:off x="609480" y="3124080"/>
                <a:ext cx="1828800" cy="5331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09480" y="1447920"/>
                <a:ext cx="1828800" cy="5331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flipV="1">
                <a:off x="2438280" y="1752480"/>
                <a:ext cx="0" cy="1676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V="1">
                <a:off x="609480" y="1676160"/>
                <a:ext cx="0" cy="1676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3809880" y="685800"/>
              <a:ext cx="2514600" cy="1752120"/>
              <a:chOff x="3809880" y="685800"/>
              <a:chExt cx="2514600" cy="1752120"/>
            </a:xfrm>
          </p:grpSpPr>
          <p:sp>
            <p:nvSpPr>
              <p:cNvPr id="135" name=""/>
              <p:cNvSpPr/>
              <p:nvPr/>
            </p:nvSpPr>
            <p:spPr>
              <a:xfrm>
                <a:off x="3809880" y="1904760"/>
                <a:ext cx="1828800" cy="533160"/>
              </a:xfrm>
              <a:prstGeom prst="rtTriangl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495680" y="685800"/>
                <a:ext cx="1828800" cy="533160"/>
              </a:xfrm>
              <a:prstGeom prst="rtTriangl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V="1">
                <a:off x="3809880" y="685800"/>
                <a:ext cx="685800" cy="1218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flipV="1">
                <a:off x="5638680" y="1218960"/>
                <a:ext cx="685800" cy="1218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flipV="1">
                <a:off x="3809880" y="1218960"/>
                <a:ext cx="685800" cy="12189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" name=""/>
            <p:cNvGrpSpPr/>
            <p:nvPr/>
          </p:nvGrpSpPr>
          <p:grpSpPr>
            <a:xfrm>
              <a:off x="7467480" y="1797120"/>
              <a:ext cx="1067040" cy="1860480"/>
              <a:chOff x="7467480" y="1797120"/>
              <a:chExt cx="1067040" cy="1860480"/>
            </a:xfrm>
          </p:grpSpPr>
          <p:sp>
            <p:nvSpPr>
              <p:cNvPr id="141" name=""/>
              <p:cNvSpPr/>
              <p:nvPr/>
            </p:nvSpPr>
            <p:spPr>
              <a:xfrm>
                <a:off x="7467480" y="3092400"/>
                <a:ext cx="1067040" cy="565200"/>
              </a:xfrm>
              <a:custGeom>
                <a:avLst/>
                <a:gdLst/>
                <a:ahLst/>
                <a:rect l="l" t="t" r="r" b="b"/>
                <a:pathLst>
                  <a:path w="672" h="356">
                    <a:moveTo>
                      <a:pt x="312" y="324"/>
                    </a:moveTo>
                    <a:cubicBezTo>
                      <a:pt x="206" y="311"/>
                      <a:pt x="178" y="317"/>
                      <a:pt x="144" y="216"/>
                    </a:cubicBezTo>
                    <a:cubicBezTo>
                      <a:pt x="140" y="188"/>
                      <a:pt x="149" y="154"/>
                      <a:pt x="132" y="132"/>
                    </a:cubicBezTo>
                    <a:cubicBezTo>
                      <a:pt x="116" y="112"/>
                      <a:pt x="84" y="116"/>
                      <a:pt x="60" y="108"/>
                    </a:cubicBezTo>
                    <a:cubicBezTo>
                      <a:pt x="48" y="104"/>
                      <a:pt x="24" y="96"/>
                      <a:pt x="24" y="96"/>
                    </a:cubicBezTo>
                    <a:cubicBezTo>
                      <a:pt x="16" y="84"/>
                      <a:pt x="0" y="74"/>
                      <a:pt x="0" y="60"/>
                    </a:cubicBezTo>
                    <a:cubicBezTo>
                      <a:pt x="0" y="33"/>
                      <a:pt x="44" y="11"/>
                      <a:pt x="60" y="0"/>
                    </a:cubicBezTo>
                    <a:cubicBezTo>
                      <a:pt x="61" y="0"/>
                      <a:pt x="256" y="21"/>
                      <a:pt x="264" y="24"/>
                    </a:cubicBezTo>
                    <a:cubicBezTo>
                      <a:pt x="324" y="44"/>
                      <a:pt x="366" y="126"/>
                      <a:pt x="408" y="168"/>
                    </a:cubicBezTo>
                    <a:cubicBezTo>
                      <a:pt x="448" y="164"/>
                      <a:pt x="488" y="153"/>
                      <a:pt x="528" y="156"/>
                    </a:cubicBezTo>
                    <a:cubicBezTo>
                      <a:pt x="607" y="161"/>
                      <a:pt x="650" y="221"/>
                      <a:pt x="672" y="288"/>
                    </a:cubicBezTo>
                    <a:cubicBezTo>
                      <a:pt x="668" y="300"/>
                      <a:pt x="669" y="315"/>
                      <a:pt x="660" y="324"/>
                    </a:cubicBezTo>
                    <a:cubicBezTo>
                      <a:pt x="628" y="356"/>
                      <a:pt x="531" y="298"/>
                      <a:pt x="492" y="288"/>
                    </a:cubicBezTo>
                    <a:cubicBezTo>
                      <a:pt x="437" y="299"/>
                      <a:pt x="406" y="306"/>
                      <a:pt x="360" y="336"/>
                    </a:cubicBezTo>
                    <a:cubicBezTo>
                      <a:pt x="344" y="332"/>
                      <a:pt x="312" y="324"/>
                      <a:pt x="312" y="324"/>
                    </a:cubicBez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467480" y="1797120"/>
                <a:ext cx="1067040" cy="565200"/>
              </a:xfrm>
              <a:custGeom>
                <a:avLst/>
                <a:gdLst/>
                <a:ahLst/>
                <a:rect l="l" t="t" r="r" b="b"/>
                <a:pathLst>
                  <a:path w="672" h="356">
                    <a:moveTo>
                      <a:pt x="312" y="324"/>
                    </a:moveTo>
                    <a:cubicBezTo>
                      <a:pt x="206" y="311"/>
                      <a:pt x="178" y="317"/>
                      <a:pt x="144" y="216"/>
                    </a:cubicBezTo>
                    <a:cubicBezTo>
                      <a:pt x="140" y="188"/>
                      <a:pt x="149" y="154"/>
                      <a:pt x="132" y="132"/>
                    </a:cubicBezTo>
                    <a:cubicBezTo>
                      <a:pt x="116" y="112"/>
                      <a:pt x="84" y="116"/>
                      <a:pt x="60" y="108"/>
                    </a:cubicBezTo>
                    <a:cubicBezTo>
                      <a:pt x="48" y="104"/>
                      <a:pt x="24" y="96"/>
                      <a:pt x="24" y="96"/>
                    </a:cubicBezTo>
                    <a:cubicBezTo>
                      <a:pt x="16" y="84"/>
                      <a:pt x="0" y="74"/>
                      <a:pt x="0" y="60"/>
                    </a:cubicBezTo>
                    <a:cubicBezTo>
                      <a:pt x="0" y="33"/>
                      <a:pt x="44" y="11"/>
                      <a:pt x="60" y="0"/>
                    </a:cubicBezTo>
                    <a:cubicBezTo>
                      <a:pt x="61" y="0"/>
                      <a:pt x="256" y="21"/>
                      <a:pt x="264" y="24"/>
                    </a:cubicBezTo>
                    <a:cubicBezTo>
                      <a:pt x="324" y="44"/>
                      <a:pt x="366" y="126"/>
                      <a:pt x="408" y="168"/>
                    </a:cubicBezTo>
                    <a:cubicBezTo>
                      <a:pt x="448" y="164"/>
                      <a:pt x="488" y="153"/>
                      <a:pt x="528" y="156"/>
                    </a:cubicBezTo>
                    <a:cubicBezTo>
                      <a:pt x="607" y="161"/>
                      <a:pt x="650" y="221"/>
                      <a:pt x="672" y="288"/>
                    </a:cubicBezTo>
                    <a:cubicBezTo>
                      <a:pt x="668" y="300"/>
                      <a:pt x="669" y="315"/>
                      <a:pt x="660" y="324"/>
                    </a:cubicBezTo>
                    <a:cubicBezTo>
                      <a:pt x="628" y="356"/>
                      <a:pt x="531" y="298"/>
                      <a:pt x="492" y="288"/>
                    </a:cubicBezTo>
                    <a:cubicBezTo>
                      <a:pt x="437" y="299"/>
                      <a:pt x="406" y="306"/>
                      <a:pt x="360" y="336"/>
                    </a:cubicBezTo>
                    <a:cubicBezTo>
                      <a:pt x="344" y="332"/>
                      <a:pt x="312" y="324"/>
                      <a:pt x="312" y="324"/>
                    </a:cubicBez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flipV="1">
                <a:off x="7467480" y="1873440"/>
                <a:ext cx="0" cy="1295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flipV="1">
                <a:off x="8534520" y="2254320"/>
                <a:ext cx="0" cy="1295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5" name=""/>
          <p:cNvSpPr/>
          <p:nvPr/>
        </p:nvSpPr>
        <p:spPr>
          <a:xfrm>
            <a:off x="247680" y="4191120"/>
            <a:ext cx="320040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333399"/>
                </a:solidFill>
                <a:latin typeface="Times New Roman"/>
              </a:rPr>
              <a:t>V = A</a:t>
            </a:r>
            <a:r>
              <a:rPr b="0" lang="en-GB" sz="2600" spc="-1" strike="noStrike" baseline="-25000">
                <a:solidFill>
                  <a:srgbClr val="333399"/>
                </a:solidFill>
                <a:latin typeface="Times New Roman"/>
              </a:rPr>
              <a:t>base</a:t>
            </a:r>
            <a:r>
              <a:rPr b="0" lang="en-GB" sz="2600" spc="-1" strike="noStrike">
                <a:solidFill>
                  <a:srgbClr val="333399"/>
                </a:solidFill>
                <a:latin typeface="Times New Roman"/>
              </a:rPr>
              <a:t> × heigh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609480" y="1676520"/>
            <a:ext cx="7925040" cy="2745720"/>
            <a:chOff x="609480" y="1676520"/>
            <a:chExt cx="7925040" cy="2745720"/>
          </a:xfrm>
        </p:grpSpPr>
        <p:sp>
          <p:nvSpPr>
            <p:cNvPr id="147" name=""/>
            <p:cNvSpPr/>
            <p:nvPr/>
          </p:nvSpPr>
          <p:spPr>
            <a:xfrm>
              <a:off x="1219320" y="380988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10c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09480" y="3809880"/>
              <a:ext cx="182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2590920" y="1752120"/>
              <a:ext cx="0" cy="167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514600" y="236232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11c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419720" y="243828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8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295800" y="190512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2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019920" y="167652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9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620120" y="3429000"/>
              <a:ext cx="749160" cy="546120"/>
            </a:xfrm>
            <a:custGeom>
              <a:avLst/>
              <a:gdLst/>
              <a:ahLst/>
              <a:rect l="l" t="t" r="r" b="b"/>
              <a:pathLst>
                <a:path w="472" h="344">
                  <a:moveTo>
                    <a:pt x="0" y="336"/>
                  </a:moveTo>
                  <a:cubicBezTo>
                    <a:pt x="196" y="340"/>
                    <a:pt x="392" y="344"/>
                    <a:pt x="432" y="288"/>
                  </a:cubicBezTo>
                  <a:cubicBezTo>
                    <a:pt x="472" y="232"/>
                    <a:pt x="356" y="116"/>
                    <a:pt x="24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010280" y="396252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A = 4cm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467480" y="243828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7c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247680" y="4662360"/>
            <a:ext cx="1600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333399"/>
                </a:solidFill>
                <a:latin typeface="Times New Roman"/>
              </a:rPr>
              <a:t>V = </a:t>
            </a:r>
            <a:r>
              <a:rPr b="0" lang="en-GB" sz="2600" spc="-1" strike="noStrike">
                <a:solidFill>
                  <a:srgbClr val="333399"/>
                </a:solidFill>
                <a:latin typeface="Symbol"/>
                <a:ea typeface="Symbol"/>
              </a:rPr>
              <a:t></a:t>
            </a:r>
            <a:r>
              <a:rPr b="0" lang="en-GB" sz="2600" spc="-1" strike="noStrike">
                <a:solidFill>
                  <a:srgbClr val="333399"/>
                </a:solidFill>
                <a:latin typeface="Times New Roman"/>
              </a:rPr>
              <a:t> r </a:t>
            </a:r>
            <a:r>
              <a:rPr b="0" lang="en-GB" sz="26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658160" y="4726080"/>
            <a:ext cx="1276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333399"/>
                </a:solidFill>
                <a:latin typeface="Times New Roman"/>
              </a:rPr>
              <a:t>× heigh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26800" y="5207040"/>
            <a:ext cx="3286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333399"/>
                </a:solidFill>
                <a:latin typeface="Times New Roman"/>
              </a:rPr>
              <a:t>V = (3.14 × 5 × 5) × 1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1320" y="5734080"/>
            <a:ext cx="3024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333399"/>
                </a:solidFill>
                <a:latin typeface="Times New Roman"/>
              </a:rPr>
              <a:t>V = 863.5 </a:t>
            </a:r>
            <a:r>
              <a:rPr b="0" lang="en-GB" sz="2600" spc="-1" strike="noStrike">
                <a:solidFill>
                  <a:srgbClr val="333399"/>
                </a:solidFill>
                <a:latin typeface="Symbol"/>
                <a:ea typeface="Symbol"/>
              </a:rPr>
              <a:t></a:t>
            </a:r>
            <a:r>
              <a:rPr b="0" lang="en-GB" sz="2600" spc="-1" strike="noStrike">
                <a:solidFill>
                  <a:srgbClr val="333399"/>
                </a:solidFill>
                <a:latin typeface="Times New Roman"/>
              </a:rPr>
              <a:t> 864 cm</a:t>
            </a:r>
            <a:r>
              <a:rPr b="0" lang="en-GB" sz="2600" spc="-1" strike="noStrike" baseline="30000">
                <a:solidFill>
                  <a:srgbClr val="333399"/>
                </a:solidFill>
                <a:latin typeface="Times New Roman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505320" y="3138480"/>
            <a:ext cx="320040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993300"/>
                </a:solidFill>
                <a:latin typeface="Times New Roman"/>
              </a:rPr>
              <a:t>V = A</a:t>
            </a:r>
            <a:r>
              <a:rPr b="0" lang="en-GB" sz="2600" spc="-1" strike="noStrike" baseline="-25000">
                <a:solidFill>
                  <a:srgbClr val="993300"/>
                </a:solidFill>
                <a:latin typeface="Times New Roman"/>
              </a:rPr>
              <a:t>base</a:t>
            </a:r>
            <a:r>
              <a:rPr b="0" lang="en-GB" sz="2600" spc="-1" strike="noStrike">
                <a:solidFill>
                  <a:srgbClr val="993300"/>
                </a:solidFill>
                <a:latin typeface="Times New Roman"/>
              </a:rPr>
              <a:t> × heigh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05320" y="3595680"/>
            <a:ext cx="3200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993300"/>
                </a:solidFill>
                <a:latin typeface="Times New Roman"/>
              </a:rPr>
              <a:t>V = (b × h ÷ 2) × 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05320" y="4129200"/>
            <a:ext cx="3200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993300"/>
                </a:solidFill>
                <a:latin typeface="Times New Roman"/>
              </a:rPr>
              <a:t>V = (8 × 2 ÷ 2) × 9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505320" y="4586400"/>
            <a:ext cx="3200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993300"/>
                </a:solidFill>
                <a:latin typeface="Times New Roman"/>
              </a:rPr>
              <a:t>V = 72 m</a:t>
            </a:r>
            <a:r>
              <a:rPr b="0" lang="en-GB" sz="2600" spc="-1" strike="noStrike" baseline="30000">
                <a:solidFill>
                  <a:srgbClr val="993300"/>
                </a:solidFill>
                <a:latin typeface="Times New Roman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400800" y="4648320"/>
            <a:ext cx="289548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9900cc"/>
                </a:solidFill>
                <a:latin typeface="Times New Roman"/>
              </a:rPr>
              <a:t>V = A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Times New Roman"/>
              </a:rPr>
              <a:t>base</a:t>
            </a:r>
            <a:r>
              <a:rPr b="0" lang="en-GB" sz="2600" spc="-1" strike="noStrike">
                <a:solidFill>
                  <a:srgbClr val="9900cc"/>
                </a:solidFill>
                <a:latin typeface="Times New Roman"/>
              </a:rPr>
              <a:t> × heigh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400800" y="5181480"/>
            <a:ext cx="2895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9900cc"/>
                </a:solidFill>
                <a:latin typeface="Times New Roman"/>
              </a:rPr>
              <a:t>V = 4 × 7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400800" y="5607000"/>
            <a:ext cx="2895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9900cc"/>
                </a:solidFill>
                <a:latin typeface="Times New Roman"/>
              </a:rPr>
              <a:t>V = 28 cm</a:t>
            </a:r>
            <a:r>
              <a:rPr b="0" lang="en-GB" sz="2600" spc="-1" strike="noStrike" baseline="30000">
                <a:solidFill>
                  <a:srgbClr val="9900cc"/>
                </a:solidFill>
                <a:latin typeface="Times New Roman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286000" y="7632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ind the following Volu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247680" y="4191120"/>
            <a:ext cx="320040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333399"/>
                </a:solidFill>
                <a:latin typeface="Times New Roman"/>
              </a:rPr>
              <a:t>V = A</a:t>
            </a:r>
            <a:r>
              <a:rPr b="0" lang="en-GB" sz="2600" spc="-1" strike="noStrike" baseline="-25000">
                <a:solidFill>
                  <a:srgbClr val="333399"/>
                </a:solidFill>
                <a:latin typeface="Times New Roman"/>
              </a:rPr>
              <a:t>base</a:t>
            </a:r>
            <a:r>
              <a:rPr b="0" lang="en-GB" sz="2600" spc="-1" strike="noStrike">
                <a:solidFill>
                  <a:srgbClr val="333399"/>
                </a:solidFill>
                <a:latin typeface="Times New Roman"/>
              </a:rPr>
              <a:t> × heigh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47680" y="4662360"/>
            <a:ext cx="1600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333399"/>
                </a:solidFill>
                <a:latin typeface="Times New Roman"/>
              </a:rPr>
              <a:t>V = </a:t>
            </a:r>
            <a:r>
              <a:rPr b="0" lang="en-GB" sz="2600" spc="-1" strike="noStrike">
                <a:solidFill>
                  <a:srgbClr val="333399"/>
                </a:solidFill>
                <a:latin typeface="Symbol"/>
                <a:ea typeface="Symbol"/>
              </a:rPr>
              <a:t></a:t>
            </a:r>
            <a:r>
              <a:rPr b="0" lang="en-GB" sz="2600" spc="-1" strike="noStrike">
                <a:solidFill>
                  <a:srgbClr val="333399"/>
                </a:solidFill>
                <a:latin typeface="Times New Roman"/>
              </a:rPr>
              <a:t> r </a:t>
            </a:r>
            <a:r>
              <a:rPr b="0" lang="en-GB" sz="26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658160" y="4726080"/>
            <a:ext cx="1276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333399"/>
                </a:solidFill>
                <a:latin typeface="Times New Roman"/>
              </a:rPr>
              <a:t>× heigh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27520" y="5207040"/>
            <a:ext cx="3120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333399"/>
                </a:solidFill>
                <a:latin typeface="Times New Roman"/>
              </a:rPr>
              <a:t>V = (3.14 × 8 × 8) × 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10600" y="5734080"/>
            <a:ext cx="3190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333399"/>
                </a:solidFill>
                <a:latin typeface="Times New Roman"/>
              </a:rPr>
              <a:t>V = 803.84 </a:t>
            </a:r>
            <a:r>
              <a:rPr b="0" lang="en-GB" sz="2600" spc="-1" strike="noStrike">
                <a:solidFill>
                  <a:srgbClr val="333399"/>
                </a:solidFill>
                <a:latin typeface="Symbol"/>
                <a:ea typeface="Symbol"/>
              </a:rPr>
              <a:t></a:t>
            </a:r>
            <a:r>
              <a:rPr b="0" lang="en-GB" sz="2600" spc="-1" strike="noStrike">
                <a:solidFill>
                  <a:srgbClr val="333399"/>
                </a:solidFill>
                <a:latin typeface="Times New Roman"/>
              </a:rPr>
              <a:t> 804 cm</a:t>
            </a:r>
            <a:r>
              <a:rPr b="0" lang="en-GB" sz="2600" spc="-1" strike="noStrike" baseline="30000">
                <a:solidFill>
                  <a:srgbClr val="333399"/>
                </a:solidFill>
                <a:latin typeface="Times New Roman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410080" y="4159080"/>
            <a:ext cx="320040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993300"/>
                </a:solidFill>
                <a:latin typeface="Times New Roman"/>
              </a:rPr>
              <a:t>V = A</a:t>
            </a:r>
            <a:r>
              <a:rPr b="0" lang="en-GB" sz="2600" spc="-1" strike="noStrike" baseline="-25000">
                <a:solidFill>
                  <a:srgbClr val="993300"/>
                </a:solidFill>
                <a:latin typeface="Times New Roman"/>
              </a:rPr>
              <a:t>base</a:t>
            </a:r>
            <a:r>
              <a:rPr b="0" lang="en-GB" sz="2600" spc="-1" strike="noStrike">
                <a:solidFill>
                  <a:srgbClr val="993300"/>
                </a:solidFill>
                <a:latin typeface="Times New Roman"/>
              </a:rPr>
              <a:t> × heigh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410080" y="4616280"/>
            <a:ext cx="3200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993300"/>
                </a:solidFill>
                <a:latin typeface="Times New Roman"/>
              </a:rPr>
              <a:t>V = (b × h ÷ 2) × 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410080" y="5149800"/>
            <a:ext cx="3200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993300"/>
                </a:solidFill>
                <a:latin typeface="Times New Roman"/>
              </a:rPr>
              <a:t>V = (5 × </a:t>
            </a:r>
            <a:r>
              <a:rPr b="1" lang="en-GB" sz="2600" spc="-1" strike="noStrike">
                <a:solidFill>
                  <a:srgbClr val="3333ff"/>
                </a:solidFill>
                <a:latin typeface="Times New Roman"/>
              </a:rPr>
              <a:t>12</a:t>
            </a:r>
            <a:r>
              <a:rPr b="0" lang="en-GB" sz="2600" spc="-1" strike="noStrike">
                <a:solidFill>
                  <a:srgbClr val="993300"/>
                </a:solidFill>
                <a:latin typeface="Times New Roman"/>
              </a:rPr>
              <a:t> ÷ 2) × 7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410080" y="5607000"/>
            <a:ext cx="3200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993300"/>
                </a:solidFill>
                <a:latin typeface="Times New Roman"/>
              </a:rPr>
              <a:t>V = 210 m</a:t>
            </a:r>
            <a:r>
              <a:rPr b="0" lang="en-GB" sz="2600" spc="-1" strike="noStrike" baseline="30000">
                <a:solidFill>
                  <a:srgbClr val="993300"/>
                </a:solidFill>
                <a:latin typeface="Times New Roman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761760" y="1066320"/>
            <a:ext cx="2590920" cy="2822400"/>
            <a:chOff x="761760" y="1066320"/>
            <a:chExt cx="2590920" cy="2822400"/>
          </a:xfrm>
        </p:grpSpPr>
        <p:sp>
          <p:nvSpPr>
            <p:cNvPr id="179" name=""/>
            <p:cNvSpPr/>
            <p:nvPr/>
          </p:nvSpPr>
          <p:spPr>
            <a:xfrm>
              <a:off x="1066680" y="342900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4c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62120" y="3429000"/>
              <a:ext cx="99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2209680" y="1066320"/>
              <a:ext cx="0" cy="22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286000" y="190512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16c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rot="5400000">
              <a:off x="228240" y="1600200"/>
              <a:ext cx="2210040" cy="1143000"/>
            </a:xfrm>
            <a:prstGeom prst="can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5943600" y="1371600"/>
            <a:ext cx="2743200" cy="2212200"/>
            <a:chOff x="5943600" y="1371600"/>
            <a:chExt cx="2743200" cy="2212200"/>
          </a:xfrm>
        </p:grpSpPr>
        <p:sp>
          <p:nvSpPr>
            <p:cNvPr id="185" name=""/>
            <p:cNvSpPr/>
            <p:nvPr/>
          </p:nvSpPr>
          <p:spPr>
            <a:xfrm>
              <a:off x="6324480" y="312408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5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620120" y="274320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7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943600" y="1371600"/>
              <a:ext cx="1295280" cy="1828800"/>
            </a:xfrm>
            <a:prstGeom prst="rtTriangle">
              <a:avLst/>
            </a:prstGeom>
            <a:solidFill>
              <a:srgbClr val="00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5943600" y="1371600"/>
              <a:ext cx="0" cy="18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943600" y="1371600"/>
              <a:ext cx="1295280" cy="18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>
              <a:off x="5943600" y="320040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943600" y="2971800"/>
              <a:ext cx="228600" cy="228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477120" y="182880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13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2286000" y="7632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ind the following Volu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609480" y="4292640"/>
            <a:ext cx="320040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3333ff"/>
                </a:solidFill>
                <a:latin typeface="Times New Roman"/>
              </a:rPr>
              <a:t>V = </a:t>
            </a:r>
            <a:r>
              <a:rPr b="0" lang="en-GB" sz="2600" spc="-1" strike="noStrike" baseline="30000">
                <a:solidFill>
                  <a:srgbClr val="3333ff"/>
                </a:solidFill>
                <a:latin typeface="Times New Roman"/>
              </a:rPr>
              <a:t>4</a:t>
            </a:r>
            <a:r>
              <a:rPr b="0" lang="en-GB" sz="2600" spc="-1" strike="noStrike">
                <a:solidFill>
                  <a:srgbClr val="3333ff"/>
                </a:solidFill>
                <a:latin typeface="Times New Roman"/>
              </a:rPr>
              <a:t>/</a:t>
            </a:r>
            <a:r>
              <a:rPr b="0" lang="en-GB" sz="2600" spc="-1" strike="noStrike" baseline="-25000">
                <a:solidFill>
                  <a:srgbClr val="3333ff"/>
                </a:solidFill>
                <a:latin typeface="Times New Roman"/>
              </a:rPr>
              <a:t>3</a:t>
            </a:r>
            <a:r>
              <a:rPr b="0" lang="en-GB" sz="26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0" lang="en-GB" sz="2600" spc="-1" strike="noStrike">
                <a:solidFill>
                  <a:srgbClr val="3333ff"/>
                </a:solidFill>
                <a:latin typeface="Symbol"/>
                <a:ea typeface="Symbol"/>
              </a:rPr>
              <a:t></a:t>
            </a:r>
            <a:r>
              <a:rPr b="0" lang="en-GB" sz="2600" spc="-1" strike="noStrike">
                <a:solidFill>
                  <a:srgbClr val="3333ff"/>
                </a:solidFill>
                <a:latin typeface="Times New Roman"/>
              </a:rPr>
              <a:t> r</a:t>
            </a:r>
            <a:r>
              <a:rPr b="0" lang="en-GB" sz="2600" spc="-1" strike="noStrike" baseline="30000">
                <a:solidFill>
                  <a:srgbClr val="3333ff"/>
                </a:solidFill>
                <a:latin typeface="Times New Roman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09480" y="4921200"/>
            <a:ext cx="3657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3333ff"/>
                </a:solidFill>
                <a:latin typeface="Times New Roman"/>
              </a:rPr>
              <a:t>V = 4</a:t>
            </a:r>
            <a:r>
              <a:rPr b="0" lang="en-GB" sz="2600" spc="-1" strike="noStrike">
                <a:solidFill>
                  <a:srgbClr val="3333ff"/>
                </a:solidFill>
                <a:latin typeface="Symbol"/>
                <a:ea typeface="Symbol"/>
              </a:rPr>
              <a:t></a:t>
            </a:r>
            <a:r>
              <a:rPr b="0" lang="en-GB" sz="2600" spc="-1" strike="noStrike">
                <a:solidFill>
                  <a:srgbClr val="3333ff"/>
                </a:solidFill>
                <a:latin typeface="Times New Roman"/>
              </a:rPr>
              <a:t>3×</a:t>
            </a:r>
            <a:r>
              <a:rPr b="0" lang="en-GB" sz="2600" spc="-1" strike="noStrike">
                <a:solidFill>
                  <a:srgbClr val="3333ff"/>
                </a:solidFill>
                <a:latin typeface="Symbol"/>
                <a:ea typeface="Symbol"/>
              </a:rPr>
              <a:t></a:t>
            </a:r>
            <a:r>
              <a:rPr b="0" lang="en-GB" sz="2600" spc="-1" strike="noStrike">
                <a:solidFill>
                  <a:srgbClr val="3333ff"/>
                </a:solidFill>
                <a:latin typeface="Times New Roman"/>
              </a:rPr>
              <a:t>×1700</a:t>
            </a:r>
            <a:r>
              <a:rPr b="0" lang="en-GB" sz="2600" spc="-1" strike="noStrike" baseline="30000">
                <a:solidFill>
                  <a:srgbClr val="3333ff"/>
                </a:solidFill>
                <a:latin typeface="Times New Roman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20640" y="5492880"/>
            <a:ext cx="2225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3333ff"/>
                </a:solidFill>
                <a:latin typeface="Times New Roman"/>
              </a:rPr>
              <a:t>V = 2.06 × 10</a:t>
            </a:r>
            <a:r>
              <a:rPr b="0" lang="en-GB" sz="2600" spc="-1" strike="noStrike" baseline="30000">
                <a:solidFill>
                  <a:srgbClr val="3333ff"/>
                </a:solidFill>
                <a:latin typeface="Times New Roman"/>
              </a:rPr>
              <a:t>1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310440" y="3962520"/>
            <a:ext cx="320040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333399"/>
                </a:solidFill>
                <a:latin typeface="Times New Roman"/>
              </a:rPr>
              <a:t>V = </a:t>
            </a:r>
            <a:r>
              <a:rPr b="0" lang="en-GB" sz="2600" spc="-1" strike="noStrike" baseline="30000">
                <a:solidFill>
                  <a:srgbClr val="333399"/>
                </a:solidFill>
                <a:latin typeface="Times New Roman"/>
              </a:rPr>
              <a:t>1</a:t>
            </a:r>
            <a:r>
              <a:rPr b="0" lang="en-GB" sz="2600" spc="-1" strike="noStrike">
                <a:solidFill>
                  <a:srgbClr val="333399"/>
                </a:solidFill>
                <a:latin typeface="Times New Roman"/>
              </a:rPr>
              <a:t>/</a:t>
            </a:r>
            <a:r>
              <a:rPr b="0" lang="en-GB" sz="2600" spc="-1" strike="noStrike" baseline="-25000">
                <a:solidFill>
                  <a:srgbClr val="333399"/>
                </a:solidFill>
                <a:latin typeface="Times New Roman"/>
              </a:rPr>
              <a:t>3</a:t>
            </a:r>
            <a:r>
              <a:rPr b="0" lang="en-GB" sz="26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GB" sz="2600" spc="-1" strike="noStrike">
                <a:solidFill>
                  <a:srgbClr val="333399"/>
                </a:solidFill>
                <a:latin typeface="Symbol"/>
                <a:ea typeface="Symbol"/>
              </a:rPr>
              <a:t></a:t>
            </a:r>
            <a:r>
              <a:rPr b="0" lang="en-GB" sz="2600" spc="-1" strike="noStrike">
                <a:solidFill>
                  <a:srgbClr val="333399"/>
                </a:solidFill>
                <a:latin typeface="Times New Roman"/>
              </a:rPr>
              <a:t> r</a:t>
            </a:r>
            <a:r>
              <a:rPr b="0" lang="en-GB" sz="26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r>
              <a:rPr b="0" lang="en-GB" sz="26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GB" sz="2600" spc="-1" strike="noStrike" u="sng">
                <a:solidFill>
                  <a:srgbClr val="333399"/>
                </a:solidFill>
                <a:uFillTx/>
                <a:latin typeface="Times New Roman"/>
              </a:rPr>
              <a:t>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86400" y="4419720"/>
            <a:ext cx="3353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333399"/>
                </a:solidFill>
                <a:latin typeface="Times New Roman"/>
              </a:rPr>
              <a:t>h = </a:t>
            </a:r>
            <a:r>
              <a:rPr b="0" lang="en-GB" sz="2600" spc="-1" strike="noStrike">
                <a:solidFill>
                  <a:srgbClr val="333399"/>
                </a:solidFill>
                <a:latin typeface="Symbol"/>
                <a:ea typeface="Symbol"/>
              </a:rPr>
              <a:t></a:t>
            </a:r>
            <a:r>
              <a:rPr b="0" lang="en-GB" sz="2600" spc="-1" strike="noStrike">
                <a:solidFill>
                  <a:srgbClr val="333399"/>
                </a:solidFill>
                <a:latin typeface="Times New Roman"/>
              </a:rPr>
              <a:t>(13</a:t>
            </a:r>
            <a:r>
              <a:rPr b="0" lang="en-GB" sz="26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r>
              <a:rPr b="0" lang="en-GB" sz="2600" spc="-1" strike="noStrike">
                <a:solidFill>
                  <a:srgbClr val="333399"/>
                </a:solidFill>
                <a:latin typeface="Times New Roman"/>
              </a:rPr>
              <a:t> - 5</a:t>
            </a:r>
            <a:r>
              <a:rPr b="0" lang="en-GB" sz="26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r>
              <a:rPr b="0" lang="en-GB" sz="2600" spc="-1" strike="noStrike">
                <a:solidFill>
                  <a:srgbClr val="333399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6657840" y="1143000"/>
            <a:ext cx="2666880" cy="2822040"/>
            <a:chOff x="6657840" y="1143000"/>
            <a:chExt cx="2666880" cy="2822040"/>
          </a:xfrm>
        </p:grpSpPr>
        <p:sp>
          <p:nvSpPr>
            <p:cNvPr id="200" name=""/>
            <p:cNvSpPr/>
            <p:nvPr/>
          </p:nvSpPr>
          <p:spPr>
            <a:xfrm>
              <a:off x="6657840" y="3505320"/>
              <a:ext cx="1981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67320" y="350532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10c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105760" y="175248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13c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734160" y="2895480"/>
              <a:ext cx="1828800" cy="304920"/>
            </a:xfrm>
            <a:prstGeom prst="ellipse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6734160" y="1143000"/>
              <a:ext cx="914400" cy="1905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 flipV="1">
              <a:off x="7648560" y="1143000"/>
              <a:ext cx="914400" cy="1905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250920" y="990720"/>
            <a:ext cx="2666520" cy="2974320"/>
            <a:chOff x="250920" y="990720"/>
            <a:chExt cx="2666520" cy="2974320"/>
          </a:xfrm>
        </p:grpSpPr>
        <p:sp>
          <p:nvSpPr>
            <p:cNvPr id="207" name=""/>
            <p:cNvSpPr/>
            <p:nvPr/>
          </p:nvSpPr>
          <p:spPr>
            <a:xfrm>
              <a:off x="250920" y="3505320"/>
              <a:ext cx="2514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60400" y="3505320"/>
              <a:ext cx="205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3400k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9" name="" descr=""/>
            <p:cNvPicPr/>
            <p:nvPr/>
          </p:nvPicPr>
          <p:blipFill>
            <a:blip r:embed="rId1"/>
            <a:stretch/>
          </p:blipFill>
          <p:spPr>
            <a:xfrm>
              <a:off x="347400" y="990720"/>
              <a:ext cx="2265120" cy="228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0" name=""/>
          <p:cNvSpPr/>
          <p:nvPr/>
        </p:nvSpPr>
        <p:spPr>
          <a:xfrm>
            <a:off x="6386400" y="4844880"/>
            <a:ext cx="3353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333399"/>
                </a:solidFill>
                <a:latin typeface="Times New Roman"/>
              </a:rPr>
              <a:t>h = 1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386400" y="5334120"/>
            <a:ext cx="3657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333399"/>
                </a:solidFill>
                <a:latin typeface="Times New Roman"/>
              </a:rPr>
              <a:t>V = 1</a:t>
            </a:r>
            <a:r>
              <a:rPr b="0" lang="en-GB" sz="2600" spc="-1" strike="noStrike">
                <a:solidFill>
                  <a:srgbClr val="333399"/>
                </a:solidFill>
                <a:latin typeface="Symbol"/>
                <a:ea typeface="Symbol"/>
              </a:rPr>
              <a:t></a:t>
            </a:r>
            <a:r>
              <a:rPr b="0" lang="en-GB" sz="2600" spc="-1" strike="noStrike">
                <a:solidFill>
                  <a:srgbClr val="333399"/>
                </a:solidFill>
                <a:latin typeface="Times New Roman"/>
              </a:rPr>
              <a:t>3×</a:t>
            </a:r>
            <a:r>
              <a:rPr b="0" lang="en-GB" sz="2600" spc="-1" strike="noStrike">
                <a:solidFill>
                  <a:srgbClr val="333399"/>
                </a:solidFill>
                <a:latin typeface="Symbol"/>
                <a:ea typeface="Symbol"/>
              </a:rPr>
              <a:t></a:t>
            </a:r>
            <a:r>
              <a:rPr b="0" lang="en-GB" sz="2600" spc="-1" strike="noStrike">
                <a:solidFill>
                  <a:srgbClr val="333399"/>
                </a:solidFill>
                <a:latin typeface="Times New Roman"/>
              </a:rPr>
              <a:t>×5</a:t>
            </a:r>
            <a:r>
              <a:rPr b="0" lang="en-GB" sz="26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r>
              <a:rPr b="0" lang="en-GB" sz="2600" spc="-1" strike="noStrike">
                <a:solidFill>
                  <a:srgbClr val="333399"/>
                </a:solidFill>
                <a:latin typeface="Times New Roman"/>
              </a:rPr>
              <a:t>×1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386400" y="5759280"/>
            <a:ext cx="3657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333399"/>
                </a:solidFill>
                <a:latin typeface="Times New Roman"/>
              </a:rPr>
              <a:t>V = 314 cm</a:t>
            </a:r>
            <a:r>
              <a:rPr b="0" lang="en-GB" sz="2600" spc="-1" strike="noStrike" baseline="30000">
                <a:solidFill>
                  <a:srgbClr val="333399"/>
                </a:solidFill>
                <a:latin typeface="Times New Roman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7632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ind the following Volu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3708360" y="980640"/>
            <a:ext cx="2016000" cy="2692080"/>
            <a:chOff x="3708360" y="980640"/>
            <a:chExt cx="2016000" cy="2692080"/>
          </a:xfrm>
        </p:grpSpPr>
        <p:sp>
          <p:nvSpPr>
            <p:cNvPr id="215" name=""/>
            <p:cNvSpPr/>
            <p:nvPr/>
          </p:nvSpPr>
          <p:spPr>
            <a:xfrm>
              <a:off x="3708360" y="2924280"/>
              <a:ext cx="1800360" cy="360360"/>
            </a:xfrm>
            <a:prstGeom prst="ellipse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4572000" y="980640"/>
              <a:ext cx="0" cy="208764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 flipV="1">
              <a:off x="3708360" y="980640"/>
              <a:ext cx="863640" cy="20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572000" y="981000"/>
              <a:ext cx="936720" cy="20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572000" y="3068640"/>
              <a:ext cx="863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16360" y="3213000"/>
              <a:ext cx="100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067280" y="1963800"/>
              <a:ext cx="100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4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3386160" y="3948120"/>
            <a:ext cx="226548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V = </a:t>
            </a:r>
            <a:r>
              <a:rPr b="0" lang="en-GB" sz="26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lang="en-GB" sz="2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362400" y="4508640"/>
            <a:ext cx="3657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V = 1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3×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×6</a:t>
            </a:r>
            <a:r>
              <a:rPr b="0" lang="en-GB" sz="2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×1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419640" y="5084640"/>
            <a:ext cx="3657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V = 528 m</a:t>
            </a:r>
            <a:r>
              <a:rPr b="0" lang="en-GB" sz="26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xtension - Calculate the Volume of this hollow pi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304920" y="2438280"/>
            <a:ext cx="5029200" cy="2286000"/>
            <a:chOff x="304920" y="2438280"/>
            <a:chExt cx="5029200" cy="2286000"/>
          </a:xfrm>
        </p:grpSpPr>
        <p:grpSp>
          <p:nvGrpSpPr>
            <p:cNvPr id="227" name=""/>
            <p:cNvGrpSpPr/>
            <p:nvPr/>
          </p:nvGrpSpPr>
          <p:grpSpPr>
            <a:xfrm>
              <a:off x="1219320" y="2438280"/>
              <a:ext cx="2286000" cy="2286000"/>
              <a:chOff x="1219320" y="2438280"/>
              <a:chExt cx="2286000" cy="2286000"/>
            </a:xfrm>
          </p:grpSpPr>
          <p:sp>
            <p:nvSpPr>
              <p:cNvPr id="228" name=""/>
              <p:cNvSpPr/>
              <p:nvPr/>
            </p:nvSpPr>
            <p:spPr>
              <a:xfrm>
                <a:off x="1219320" y="2438280"/>
                <a:ext cx="2286000" cy="2286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676520" y="2971800"/>
                <a:ext cx="1371600" cy="1295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0" name=""/>
            <p:cNvSpPr/>
            <p:nvPr/>
          </p:nvSpPr>
          <p:spPr>
            <a:xfrm>
              <a:off x="3840120" y="3978000"/>
              <a:ext cx="1494000" cy="74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15c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 flipV="1">
              <a:off x="3276720" y="3580920"/>
              <a:ext cx="1066680" cy="1066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 flipV="1">
              <a:off x="2362320" y="2971800"/>
              <a:ext cx="0" cy="1295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1143000" y="2438280"/>
              <a:ext cx="0" cy="228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04920" y="327636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10c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974960" y="3352680"/>
              <a:ext cx="9144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8c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"/>
          <p:cNvSpPr/>
          <p:nvPr/>
        </p:nvSpPr>
        <p:spPr>
          <a:xfrm>
            <a:off x="5048280" y="1854360"/>
            <a:ext cx="320040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333399"/>
                </a:solidFill>
                <a:latin typeface="Times New Roman"/>
              </a:rPr>
              <a:t>V = A</a:t>
            </a:r>
            <a:r>
              <a:rPr b="0" lang="en-GB" sz="2600" spc="-1" strike="noStrike" baseline="-25000">
                <a:solidFill>
                  <a:srgbClr val="333399"/>
                </a:solidFill>
                <a:latin typeface="Times New Roman"/>
              </a:rPr>
              <a:t>base</a:t>
            </a:r>
            <a:r>
              <a:rPr b="0" lang="en-GB" sz="2600" spc="-1" strike="noStrike">
                <a:solidFill>
                  <a:srgbClr val="333399"/>
                </a:solidFill>
                <a:latin typeface="Times New Roman"/>
              </a:rPr>
              <a:t> × heigh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048280" y="2406600"/>
            <a:ext cx="2362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333399"/>
                </a:solidFill>
                <a:latin typeface="Times New Roman"/>
              </a:rPr>
              <a:t>V = </a:t>
            </a:r>
            <a:r>
              <a:rPr b="0" lang="en-GB" sz="2600" spc="-1" strike="noStrike">
                <a:solidFill>
                  <a:srgbClr val="333399"/>
                </a:solidFill>
                <a:latin typeface="Symbol"/>
                <a:ea typeface="Symbol"/>
              </a:rPr>
              <a:t></a:t>
            </a:r>
            <a:r>
              <a:rPr b="0" lang="en-GB" sz="2600" spc="-1" strike="noStrike">
                <a:solidFill>
                  <a:srgbClr val="333399"/>
                </a:solidFill>
                <a:latin typeface="Times New Roman"/>
              </a:rPr>
              <a:t> R</a:t>
            </a:r>
            <a:r>
              <a:rPr b="0" lang="en-GB" sz="26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r>
              <a:rPr b="0" lang="en-GB" sz="2600" spc="-1" strike="noStrike">
                <a:solidFill>
                  <a:srgbClr val="333399"/>
                </a:solidFill>
                <a:latin typeface="Times New Roman"/>
              </a:rPr>
              <a:t> - </a:t>
            </a:r>
            <a:r>
              <a:rPr b="0" lang="en-GB" sz="2600" spc="-1" strike="noStrike">
                <a:solidFill>
                  <a:srgbClr val="333399"/>
                </a:solidFill>
                <a:latin typeface="Symbol"/>
                <a:ea typeface="Symbol"/>
              </a:rPr>
              <a:t></a:t>
            </a:r>
            <a:r>
              <a:rPr b="0" lang="en-GB" sz="2600" spc="-1" strike="noStrike">
                <a:solidFill>
                  <a:srgbClr val="333399"/>
                </a:solidFill>
                <a:latin typeface="Times New Roman"/>
              </a:rPr>
              <a:t>r</a:t>
            </a:r>
            <a:r>
              <a:rPr b="0" lang="en-GB" sz="26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123680" y="2438280"/>
            <a:ext cx="1276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333399"/>
                </a:solidFill>
                <a:latin typeface="Times New Roman"/>
              </a:rPr>
              <a:t>× heigh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026680" y="2940120"/>
            <a:ext cx="3635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333399"/>
                </a:solidFill>
                <a:latin typeface="Times New Roman"/>
              </a:rPr>
              <a:t>V = (</a:t>
            </a:r>
            <a:r>
              <a:rPr b="0" lang="en-GB" sz="2600" spc="-1" strike="noStrike">
                <a:solidFill>
                  <a:srgbClr val="333399"/>
                </a:solidFill>
                <a:latin typeface="Symbol"/>
                <a:ea typeface="Symbol"/>
              </a:rPr>
              <a:t></a:t>
            </a:r>
            <a:r>
              <a:rPr b="0" lang="en-GB" sz="2600" spc="-1" strike="noStrike">
                <a:solidFill>
                  <a:srgbClr val="333399"/>
                </a:solidFill>
                <a:latin typeface="Times New Roman"/>
              </a:rPr>
              <a:t>×5×5- </a:t>
            </a:r>
            <a:r>
              <a:rPr b="0" lang="en-GB" sz="2600" spc="-1" strike="noStrike">
                <a:solidFill>
                  <a:srgbClr val="333399"/>
                </a:solidFill>
                <a:latin typeface="Symbol"/>
                <a:ea typeface="Symbol"/>
              </a:rPr>
              <a:t></a:t>
            </a:r>
            <a:r>
              <a:rPr b="0" lang="en-GB" sz="2600" spc="-1" strike="noStrike">
                <a:solidFill>
                  <a:srgbClr val="333399"/>
                </a:solidFill>
                <a:latin typeface="Times New Roman"/>
              </a:rPr>
              <a:t>×4×4) × 1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048280" y="3473280"/>
            <a:ext cx="3181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333399"/>
                </a:solidFill>
                <a:latin typeface="Times New Roman"/>
              </a:rPr>
              <a:t>V = (25</a:t>
            </a:r>
            <a:r>
              <a:rPr b="0" lang="en-GB" sz="2600" spc="-1" strike="noStrike">
                <a:solidFill>
                  <a:srgbClr val="333399"/>
                </a:solidFill>
                <a:latin typeface="Symbol"/>
                <a:ea typeface="Symbol"/>
              </a:rPr>
              <a:t></a:t>
            </a:r>
            <a:r>
              <a:rPr b="0" lang="en-GB" sz="2600" spc="-1" strike="noStrike">
                <a:solidFill>
                  <a:srgbClr val="333399"/>
                </a:solidFill>
                <a:latin typeface="Times New Roman"/>
              </a:rPr>
              <a:t>-16</a:t>
            </a:r>
            <a:r>
              <a:rPr b="0" lang="en-GB" sz="2600" spc="-1" strike="noStrike">
                <a:solidFill>
                  <a:srgbClr val="333399"/>
                </a:solidFill>
                <a:latin typeface="Symbol"/>
                <a:ea typeface="Symbol"/>
              </a:rPr>
              <a:t></a:t>
            </a:r>
            <a:r>
              <a:rPr b="0" lang="en-GB" sz="2600" spc="-1" strike="noStrike">
                <a:solidFill>
                  <a:srgbClr val="333399"/>
                </a:solidFill>
                <a:latin typeface="Times New Roman"/>
              </a:rPr>
              <a:t>) × 1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048280" y="4006800"/>
            <a:ext cx="3181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333399"/>
                </a:solidFill>
                <a:latin typeface="Times New Roman"/>
              </a:rPr>
              <a:t>V = 9</a:t>
            </a:r>
            <a:r>
              <a:rPr b="0" lang="en-GB" sz="2600" spc="-1" strike="noStrike">
                <a:solidFill>
                  <a:srgbClr val="333399"/>
                </a:solidFill>
                <a:latin typeface="Symbol"/>
                <a:ea typeface="Symbol"/>
              </a:rPr>
              <a:t></a:t>
            </a:r>
            <a:r>
              <a:rPr b="0" lang="en-GB" sz="2600" spc="-1" strike="noStrike">
                <a:solidFill>
                  <a:srgbClr val="333399"/>
                </a:solidFill>
                <a:latin typeface="Times New Roman"/>
              </a:rPr>
              <a:t> × 1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48280" y="4540320"/>
            <a:ext cx="3181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333399"/>
                </a:solidFill>
                <a:latin typeface="Times New Roman"/>
              </a:rPr>
              <a:t>V = 135</a:t>
            </a:r>
            <a:r>
              <a:rPr b="0" lang="en-GB" sz="2600" spc="-1" strike="noStrike">
                <a:solidFill>
                  <a:srgbClr val="333399"/>
                </a:solidFill>
                <a:latin typeface="Symbol"/>
                <a:ea typeface="Symbol"/>
              </a:rPr>
              <a:t></a:t>
            </a:r>
            <a:r>
              <a:rPr b="0" lang="en-GB" sz="26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GB" sz="2600" spc="-1" strike="noStrike">
                <a:solidFill>
                  <a:srgbClr val="333399"/>
                </a:solidFill>
                <a:latin typeface="Symbol"/>
                <a:ea typeface="Symbol"/>
              </a:rPr>
              <a:t></a:t>
            </a:r>
            <a:r>
              <a:rPr b="0" lang="en-GB" sz="2600" spc="-1" strike="noStrike">
                <a:solidFill>
                  <a:srgbClr val="333399"/>
                </a:solidFill>
                <a:latin typeface="Times New Roman"/>
              </a:rPr>
              <a:t> 424cm</a:t>
            </a:r>
            <a:r>
              <a:rPr b="0" lang="en-GB" sz="2600" spc="-1" strike="noStrike" baseline="30000">
                <a:solidFill>
                  <a:srgbClr val="333399"/>
                </a:solidFill>
                <a:latin typeface="Times New Roman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ind the height of the second cylinder given that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ey have equal volume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1143000" y="1066680"/>
            <a:ext cx="7620120" cy="2974320"/>
            <a:chOff x="1143000" y="1066680"/>
            <a:chExt cx="7620120" cy="2974320"/>
          </a:xfrm>
        </p:grpSpPr>
        <p:sp>
          <p:nvSpPr>
            <p:cNvPr id="245" name=""/>
            <p:cNvSpPr/>
            <p:nvPr/>
          </p:nvSpPr>
          <p:spPr>
            <a:xfrm>
              <a:off x="1143000" y="1752480"/>
              <a:ext cx="2133720" cy="1600200"/>
            </a:xfrm>
            <a:prstGeom prst="can">
              <a:avLst>
                <a:gd name="adj" fmla="val 25000"/>
              </a:avLst>
            </a:prstGeom>
            <a:solidFill>
              <a:srgbClr val="ff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943600" y="1066680"/>
              <a:ext cx="1523880" cy="2438280"/>
            </a:xfrm>
            <a:prstGeom prst="can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143000" y="3581280"/>
              <a:ext cx="2133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943600" y="3581280"/>
              <a:ext cx="1523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752480" y="358128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12c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276720" y="228600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5c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00800" y="358128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8c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543800" y="205740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" name=""/>
          <p:cNvSpPr/>
          <p:nvPr/>
        </p:nvSpPr>
        <p:spPr>
          <a:xfrm>
            <a:off x="609480" y="4292640"/>
            <a:ext cx="320040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V = A</a:t>
            </a:r>
            <a:r>
              <a:rPr b="0" lang="en-GB" sz="2600" spc="-1" strike="noStrike" baseline="-25000">
                <a:solidFill>
                  <a:srgbClr val="000000"/>
                </a:solidFill>
                <a:latin typeface="Times New Roman"/>
              </a:rPr>
              <a:t>base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× heigh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09480" y="4764240"/>
            <a:ext cx="1600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V = 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r </a:t>
            </a:r>
            <a:r>
              <a:rPr b="0" lang="en-GB" sz="2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019960" y="4827600"/>
            <a:ext cx="1276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× heigh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90400" y="5302080"/>
            <a:ext cx="2721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V = (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× 6 × 6) × 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72040" y="5835600"/>
            <a:ext cx="3439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V = 565.48 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565.5 cm</a:t>
            </a:r>
            <a:r>
              <a:rPr b="0" lang="en-GB" sz="26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029200" y="4038480"/>
            <a:ext cx="320040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V = A</a:t>
            </a:r>
            <a:r>
              <a:rPr b="0" lang="en-GB" sz="2600" spc="-1" strike="noStrike" baseline="-25000">
                <a:solidFill>
                  <a:srgbClr val="000000"/>
                </a:solidFill>
                <a:latin typeface="Times New Roman"/>
              </a:rPr>
              <a:t>base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× heigh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105520" y="4572000"/>
            <a:ext cx="3886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× 4 × 4 × h = 565.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5470560" y="4952880"/>
                <a:ext cx="178416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6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×</m:t>
                        </m:r>
                        <m:r>
                          <m:t xml:space="preserve">4</m:t>
                        </m:r>
                        <m:r>
                          <m:t xml:space="preserve">×</m:t>
                        </m:r>
                        <m:r>
                          <m:t xml:space="preserve">π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1" name=""/>
          <p:cNvSpPr/>
          <p:nvPr/>
        </p:nvSpPr>
        <p:spPr>
          <a:xfrm>
            <a:off x="5410080" y="5791320"/>
            <a:ext cx="2063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h 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11.3c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ind the diameter of the second cylinder given that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ey have equal volum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1143000" y="990720"/>
            <a:ext cx="7620120" cy="2974320"/>
            <a:chOff x="1143000" y="990720"/>
            <a:chExt cx="7620120" cy="2974320"/>
          </a:xfrm>
        </p:grpSpPr>
        <p:sp>
          <p:nvSpPr>
            <p:cNvPr id="264" name=""/>
            <p:cNvSpPr/>
            <p:nvPr/>
          </p:nvSpPr>
          <p:spPr>
            <a:xfrm>
              <a:off x="1143000" y="1524240"/>
              <a:ext cx="1905120" cy="1752480"/>
            </a:xfrm>
            <a:prstGeom prst="can">
              <a:avLst>
                <a:gd name="adj" fmla="val 25000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943600" y="990720"/>
              <a:ext cx="1523880" cy="2438640"/>
            </a:xfrm>
            <a:prstGeom prst="can">
              <a:avLst>
                <a:gd name="adj" fmla="val 25000"/>
              </a:avLst>
            </a:prstGeom>
            <a:solidFill>
              <a:srgbClr val="ff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143000" y="3505320"/>
              <a:ext cx="1981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943600" y="3505320"/>
              <a:ext cx="1523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752480" y="350532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10c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276720" y="221004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6c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400800" y="350532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543800" y="198144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11c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2" name=""/>
          <p:cNvSpPr/>
          <p:nvPr/>
        </p:nvSpPr>
        <p:spPr>
          <a:xfrm>
            <a:off x="609480" y="4292640"/>
            <a:ext cx="320040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V = A</a:t>
            </a:r>
            <a:r>
              <a:rPr b="0" lang="en-GB" sz="2600" spc="-1" strike="noStrike" baseline="-25000">
                <a:solidFill>
                  <a:srgbClr val="000000"/>
                </a:solidFill>
                <a:latin typeface="Times New Roman"/>
              </a:rPr>
              <a:t>base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× heigh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09480" y="4764240"/>
            <a:ext cx="1600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V = 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r </a:t>
            </a:r>
            <a:r>
              <a:rPr b="0" lang="en-GB" sz="2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019960" y="4827600"/>
            <a:ext cx="1276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× heigh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90400" y="5302080"/>
            <a:ext cx="2721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V = (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× 5 × 5) × 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72040" y="5835600"/>
            <a:ext cx="3439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V = 471.24 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471.2 cm</a:t>
            </a:r>
            <a:r>
              <a:rPr b="0" lang="en-GB" sz="26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029200" y="3962520"/>
            <a:ext cx="320040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V = A</a:t>
            </a:r>
            <a:r>
              <a:rPr b="0" lang="en-GB" sz="2600" spc="-1" strike="noStrike" baseline="-25000">
                <a:solidFill>
                  <a:srgbClr val="000000"/>
                </a:solidFill>
                <a:latin typeface="Times New Roman"/>
              </a:rPr>
              <a:t>base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× heigh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05520" y="4419720"/>
            <a:ext cx="3352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× r</a:t>
            </a:r>
            <a:r>
              <a:rPr b="0" lang="en-GB" sz="2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× 11 = 471.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5486400" y="4876920"/>
                <a:ext cx="152388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7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π</m:t>
                        </m:r>
                        <m:r>
                          <m:t xml:space="preserve"> 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0" name=""/>
          <p:cNvSpPr/>
          <p:nvPr/>
        </p:nvSpPr>
        <p:spPr>
          <a:xfrm>
            <a:off x="5257800" y="5638680"/>
            <a:ext cx="3733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r =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13.635 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3.7c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257800" y="6064200"/>
            <a:ext cx="2133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d = 7.4c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3T12:59:12Z</dcterms:created>
  <dc:creator/>
  <dc:description/>
  <dc:language>en-US</dc:language>
  <cp:lastModifiedBy/>
  <dcterms:modified xsi:type="dcterms:W3CDTF">2007-02-27T12:50:31Z</dcterms:modified>
  <cp:revision>19</cp:revision>
  <dc:subject/>
  <dc:title>Areas and Volumes</dc:title>
</cp:coreProperties>
</file>